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33.xml" ContentType="application/vnd.openxmlformats-officedocument.theme+xml"/>
  <Override PartName="/ppt/theme/theme45.xml" ContentType="application/vnd.openxmlformats-officedocument.theme+xml"/>
  <Override PartName="/ppt/theme/theme10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</p:sldMasterIdLst>
  <p:notesMasterIdLst>
    <p:notesMasterId r:id="rId46"/>
  </p:notesMasterIdLst>
  <p:sldIdLst>
    <p:sldId id="256" r:id="rId47"/>
    <p:sldId id="257" r:id="rId48"/>
    <p:sldId id="258" r:id="rId49"/>
    <p:sldId id="259" r:id="rId50"/>
    <p:sldId id="260" r:id="rId51"/>
    <p:sldId id="261" r:id="rId52"/>
    <p:sldId id="262" r:id="rId53"/>
    <p:sldId id="263" r:id="rId54"/>
    <p:sldId id="264" r:id="rId55"/>
    <p:sldId id="265" r:id="rId56"/>
    <p:sldId id="266" r:id="rId57"/>
    <p:sldId id="267" r:id="rId58"/>
    <p:sldId id="268" r:id="rId59"/>
    <p:sldId id="269" r:id="rId60"/>
    <p:sldId id="270" r:id="rId61"/>
    <p:sldId id="271" r:id="rId62"/>
    <p:sldId id="272" r:id="rId63"/>
    <p:sldId id="273" r:id="rId64"/>
    <p:sldId id="274" r:id="rId65"/>
    <p:sldId id="275" r:id="rId66"/>
    <p:sldId id="276" r:id="rId67"/>
    <p:sldId id="277" r:id="rId68"/>
    <p:sldId id="278" r:id="rId69"/>
    <p:sldId id="279" r:id="rId70"/>
    <p:sldId id="280" r:id="rId71"/>
    <p:sldId id="281" r:id="rId72"/>
    <p:sldId id="282" r:id="rId73"/>
    <p:sldId id="283" r:id="rId74"/>
    <p:sldId id="284" r:id="rId75"/>
    <p:sldId id="285" r:id="rId76"/>
  </p:sldIdLst>
  <p:sldSz cx="6858000" cy="9144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notesMaster" Target="notesMasters/notesMaster1.xml"/><Relationship Id="rId47" Type="http://schemas.openxmlformats.org/officeDocument/2006/relationships/slide" Target="slides/slide1.xml"/><Relationship Id="rId48" Type="http://schemas.openxmlformats.org/officeDocument/2006/relationships/slide" Target="slides/slide2.xml"/><Relationship Id="rId49" Type="http://schemas.openxmlformats.org/officeDocument/2006/relationships/slide" Target="slides/slide3.xml"/><Relationship Id="rId50" Type="http://schemas.openxmlformats.org/officeDocument/2006/relationships/slide" Target="slides/slide4.xml"/><Relationship Id="rId51" Type="http://schemas.openxmlformats.org/officeDocument/2006/relationships/slide" Target="slides/slide5.xml"/><Relationship Id="rId52" Type="http://schemas.openxmlformats.org/officeDocument/2006/relationships/slide" Target="slides/slide6.xml"/><Relationship Id="rId53" Type="http://schemas.openxmlformats.org/officeDocument/2006/relationships/slide" Target="slides/slide7.xml"/><Relationship Id="rId54" Type="http://schemas.openxmlformats.org/officeDocument/2006/relationships/slide" Target="slides/slide8.xml"/><Relationship Id="rId55" Type="http://schemas.openxmlformats.org/officeDocument/2006/relationships/slide" Target="slides/slide9.xml"/><Relationship Id="rId56" Type="http://schemas.openxmlformats.org/officeDocument/2006/relationships/slide" Target="slides/slide10.xml"/><Relationship Id="rId57" Type="http://schemas.openxmlformats.org/officeDocument/2006/relationships/slide" Target="slides/slide11.xml"/><Relationship Id="rId58" Type="http://schemas.openxmlformats.org/officeDocument/2006/relationships/slide" Target="slides/slide12.xml"/><Relationship Id="rId59" Type="http://schemas.openxmlformats.org/officeDocument/2006/relationships/slide" Target="slides/slide13.xml"/><Relationship Id="rId60" Type="http://schemas.openxmlformats.org/officeDocument/2006/relationships/slide" Target="slides/slide14.xml"/><Relationship Id="rId61" Type="http://schemas.openxmlformats.org/officeDocument/2006/relationships/slide" Target="slides/slide15.xml"/><Relationship Id="rId62" Type="http://schemas.openxmlformats.org/officeDocument/2006/relationships/slide" Target="slides/slide16.xml"/><Relationship Id="rId63" Type="http://schemas.openxmlformats.org/officeDocument/2006/relationships/slide" Target="slides/slide17.xml"/><Relationship Id="rId64" Type="http://schemas.openxmlformats.org/officeDocument/2006/relationships/slide" Target="slides/slide18.xml"/><Relationship Id="rId65" Type="http://schemas.openxmlformats.org/officeDocument/2006/relationships/slide" Target="slides/slide19.xml"/><Relationship Id="rId66" Type="http://schemas.openxmlformats.org/officeDocument/2006/relationships/slide" Target="slides/slide20.xml"/><Relationship Id="rId67" Type="http://schemas.openxmlformats.org/officeDocument/2006/relationships/slide" Target="slides/slide21.xml"/><Relationship Id="rId68" Type="http://schemas.openxmlformats.org/officeDocument/2006/relationships/slide" Target="slides/slide22.xml"/><Relationship Id="rId69" Type="http://schemas.openxmlformats.org/officeDocument/2006/relationships/slide" Target="slides/slide23.xml"/><Relationship Id="rId70" Type="http://schemas.openxmlformats.org/officeDocument/2006/relationships/slide" Target="slides/slide24.xml"/><Relationship Id="rId71" Type="http://schemas.openxmlformats.org/officeDocument/2006/relationships/slide" Target="slides/slide25.xml"/><Relationship Id="rId72" Type="http://schemas.openxmlformats.org/officeDocument/2006/relationships/slide" Target="slides/slide26.xml"/><Relationship Id="rId73" Type="http://schemas.openxmlformats.org/officeDocument/2006/relationships/slide" Target="slides/slide27.xml"/><Relationship Id="rId74" Type="http://schemas.openxmlformats.org/officeDocument/2006/relationships/slide" Target="slides/slide28.xml"/><Relationship Id="rId75" Type="http://schemas.openxmlformats.org/officeDocument/2006/relationships/slide" Target="slides/slide29.xml"/><Relationship Id="rId76" Type="http://schemas.openxmlformats.org/officeDocument/2006/relationships/slide" Target="slides/slide30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0" y="7056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8360" cy="41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7FA2-1C4C-441D-B37B-3E1A533027F9}" type="slidenum">
              <a:rPr b="0" lang="en-U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PlaceHolder 1"/>
          <p:cNvSpPr>
            <a:spLocks noGrp="1"/>
          </p:cNvSpPr>
          <p:nvPr>
            <p:ph type="sldImg"/>
          </p:nvPr>
        </p:nvSpPr>
        <p:spPr>
          <a:xfrm>
            <a:off x="2195640" y="696960"/>
            <a:ext cx="2609640" cy="3481200"/>
          </a:xfrm>
          <a:prstGeom prst="rect">
            <a:avLst/>
          </a:prstGeom>
          <a:ln w="0">
            <a:noFill/>
          </a:ln>
        </p:spPr>
      </p:sp>
      <p:sp>
        <p:nvSpPr>
          <p:cNvPr id="212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EC59-D3F8-4211-A3D6-80EBFA8B3038}" type="slidenum">
              <a:rPr b="0" lang="en-U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PlaceHolder 1"/>
          <p:cNvSpPr>
            <a:spLocks noGrp="1"/>
          </p:cNvSpPr>
          <p:nvPr>
            <p:ph type="sldImg"/>
          </p:nvPr>
        </p:nvSpPr>
        <p:spPr>
          <a:xfrm>
            <a:off x="2195640" y="696960"/>
            <a:ext cx="2609640" cy="3481200"/>
          </a:xfrm>
          <a:prstGeom prst="rect">
            <a:avLst/>
          </a:prstGeom>
          <a:ln w="0">
            <a:noFill/>
          </a:ln>
        </p:spPr>
      </p:sp>
      <p:sp>
        <p:nvSpPr>
          <p:cNvPr id="21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96B-42B1-4362-9393-05CE107E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8D5-DA96-469E-9006-D3A7CC09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76BBA-F435-443E-8081-6EE40FA1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9A01E-5196-459F-A84F-FB19CAF6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84D6E-415C-4FDE-965D-60234873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01591-5BED-4BF8-91CB-D7786589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E8387-34CB-44FF-9BB9-0C8BC84A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F6A6B-B149-4FF2-9DBC-F81FD809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93713-EAF4-4C18-BB67-052B5972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8D71B-32CD-4937-8C81-89F3C19D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A40A2-0EB3-4115-8DDC-42D1AB7F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9C86C-DAD4-4A78-B615-0CF83EA6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AC3-082B-4969-80F2-DC1978E5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3410F-5F88-42F8-89F8-3F387D6D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F1480-07F7-481D-A74B-0EFE2F03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E017A-8426-4959-964D-6F0850E4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F0A7F-FB2E-4019-AF55-8A7E2B3A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9DCC0-8397-4439-BE4C-BABB96DB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36B39-6A0B-4B94-93A8-8013F131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CFA8A-C467-497E-B83D-EED4ADB2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4C7ED-311B-4A29-992B-EEA7A7F6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45AF8-7DAD-482D-B838-42A275FF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C923C-317F-497A-AEB5-56819DF7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F88-6CEF-4072-AC7F-669CE9AB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53504-7974-4C0F-A795-D937E93E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6F0FD-5C26-4246-A4FC-2C362B45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F9871-7E86-4C34-AB30-DE473329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4016B-D849-402F-A41F-33966BDB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30A20-5071-4193-B47A-A97C8E9E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7C5C8-F1A3-42BD-A229-52238349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33752-CB29-437A-995F-2768ECBF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3E900-EC2C-4C88-AAB9-5D083CEC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8D28F-05C1-40C8-BE0F-89E97043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AEB9B-20E5-4A2B-A8BF-4F9CAE37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C0DA-AE19-4336-9B8D-3DCC3437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7F261-BAB5-4CD4-8ADE-4BAB7DA2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67BC0-C243-46AB-A898-C7B13BA2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D36F2-8D16-46E9-ACC2-79D3375B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1E14F-5E4D-4274-A04F-04836938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56542-C099-4765-96C3-89F7F9F1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204C7-591B-4E29-94A3-96489C6D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C8A7C-25CC-4364-9AC8-70F05DE0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0C867-8711-482B-9D64-1B7242A5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096BC-E29F-4CFF-A43A-D48FB380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B011D-BAB2-4B73-ACDB-2B46B378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234E-E660-4B83-AEF5-715EA168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0C8CE-FF2B-48BB-A24E-0DF723F6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F12B0-F355-4435-B53E-24CA8A14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833FD-F00C-4552-8958-4D703379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B1C00-27E5-45D3-8EF1-0C10FE0A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9A1A5-82C1-4809-90A4-AD0FC85F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08CB9-EF3C-47F9-940A-EB0BEEA7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43EC8-7218-4A63-B216-A99ABA75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71341-36EB-471F-A901-7E5F4B3B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1448D-D18D-47F4-9F5B-D61CE68D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70FB0-F8E8-4502-AAC7-9C3EB911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FADA-84BE-45CD-8009-3968B737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27BEC-CCF1-4E0E-B78B-7922C4D2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38DD6-DE85-406B-AF7C-DAAE27C9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7BD94-D9C0-4CF7-8C2F-A76679DE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6EE8A-04A8-4891-96AE-1AB5988A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71C4E-B812-4E27-B599-B20263F5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02B09-3BD3-4687-8823-4FA058E2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A556F-BB01-470A-9866-4831CE80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A7AA7-35D4-4F4B-B745-2A38BA8C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590C8-E18E-47B3-ADDD-53BA25C5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8FF0FF-A571-4B93-8370-C7D5765A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E914-DE5B-449D-92EB-4C347B3C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3B070-B465-4110-8BF3-0D719E27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4861C-1FB2-4681-9EFB-DF436FFB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4CF86B-641F-400E-B853-F580BD93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703A75-C7B2-4284-A217-F87FF046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B0D041-F2F4-40C3-A34B-6EBD5279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F2DAFA-36C0-430A-B8C9-FDD10291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650AD-BAFE-4EDF-8C00-8F8CA2D2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6B7D9-B5E4-44E5-8761-0F8252D2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C8097-EA5E-4C7B-9716-220761E7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EAB7A-8983-42AB-A05D-205B98A8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DD67-C0FA-44BD-A4B3-FF8A40A3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3A7AE3-88A6-40F6-B0F5-C916779C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FAD6C4-D735-4B90-B67D-F185827E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E294FB-9920-459A-8625-A4C78CD8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00705-7967-4454-ABD5-C9A18442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C8058-EA97-434F-A812-FE7EC5E6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FA2EE1-93FA-4236-AE9D-C6217351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E5E662-E70D-4A9A-BDB7-FF07B3C7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BFAB25-0759-4821-9CC0-DFE8A220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FC833E-E985-492C-8A5F-C7412A27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423A20-189F-4A54-8AF6-6D30FEAE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B00F-8710-4C75-AE5A-FAF73997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FA52B-9EDE-4633-B324-8FC82B3E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487FCF-1C7C-4BF0-8F18-81CF9537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883BD-BE69-46B5-ADA7-8D99438D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5C1FAC-FA8F-4C9F-8749-08D32BC7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AE4257-3AED-4420-95FD-73F7E755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04F8D2-63EE-47BC-A8B7-38D68E95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0949D-5CF9-4987-A1C5-E28A297F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A93199-4E28-4725-A7CE-CE6786CB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26811C-A21D-4481-9590-1FD2DDBB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4B071A-0FF7-4A30-BBA1-A8CEB283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00C1-175E-4BCE-B75D-80A86205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FD3B7D-2CE6-43D8-92BE-EE0DBDA9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4C0376-9131-4F0C-8789-7C8D66F2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DAEE05-812C-46BA-8D60-18021183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9109B7-19A5-463A-930E-E27374E6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CE445F-F460-421A-8245-CE99B66B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4C3DE8-842A-4363-88DC-2D6DF4EB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B1B6ED-16DC-4054-97E3-6AC24F0B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B58EFB-FED6-415F-BE6D-2CC6EAAD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1B8DB2-3FBE-49D5-84AF-D2115BB4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0F0055-FE31-4C5C-8CEF-594CC6C9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83C-DFA4-4508-9E04-7426CAD7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7428-B9B7-4582-A61F-4D063E6E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1A4044-3168-4524-B4D5-D80CC5E6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01B77A-F7E6-4A83-9A88-2886E057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ADAB33-F57A-4FAD-9AD6-9DFFEF9F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DB3A68-D443-4C23-BC6F-E67FB4D1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C87BC7-79CC-4CF7-B50E-983C3BC4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9A813E-38DA-4132-B6FC-A5428330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FB02D8-BE25-40CE-8A6C-CA515145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070EC-5DFB-474A-A0F1-C6CEB135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80F882-7B5A-4825-BF39-D91C61C7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45C67F-A5C0-4B7B-A7D3-74CCAC5A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03BC-3922-4AF7-A24C-56B3538B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2E3491-1B16-45DE-B705-483B350F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082215-5462-472A-B8F1-F781424F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BC3539-571B-4417-9746-48C4FFEE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314EE3-968C-4ABD-87B9-2D7D4712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62E095-6DD4-41FC-9B4F-F7063D5A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7777CC-84CF-4EAD-B295-0BE037E7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A9FDB-7958-4CA0-96F5-6368EC99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1E6F65-F7BE-4F72-80AA-922DEF1C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7502D9-970D-43A3-9459-DD8B1540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E05DE0-6F8E-4F50-B9AD-0F1B7D07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6486-53AA-411F-84ED-074AB92A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8E0100-57B0-4BC4-A5D8-F6B4B0E3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7305A0-097D-4A3F-8F50-9719290B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E93A02-B64C-494D-821B-5C74A759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95C0CA-B1D1-4B20-B7A6-42E41DFE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ACB98C-6547-421A-B6F7-DB062138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4E21AB-F0EE-4DE8-9927-5A4EDDF2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7E8E51-F56D-445E-A9AE-6AEA776F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24728A-3B07-4E4F-B3AA-095D0631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729C14-573D-4666-8FB5-8FD4D7D9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081907-F090-45A4-A163-EF311A17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E408-CA59-429F-941E-A0155E61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1381DD-F37F-4B5B-A650-CE6F7C4A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7B5F84-CC2B-4D6C-A9FE-136E4514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34CF91-4779-4278-9523-07AD1F21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FE369F-A0AB-4993-BAC8-D2261277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8C43CB-D756-49CE-89BE-5E5D216E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10B6CB-387A-44CB-87B8-99AE916E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3D8B8D-0D09-486D-AAE5-920FD93B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10213F-C85D-49BE-ACC9-D801AC5F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616B15-A645-4F66-8F10-53BF612D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DB715F-CD9C-4FAD-8D7A-E8795FC9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92DC-CDD8-4852-8FFE-B9863DF5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455B11-0F98-4C02-ACB5-9989E812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EC7AA6-57EB-4642-93EF-4DF737D2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04D8FD-5CCA-4135-985D-EE1DD2B9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22395C-1676-43B3-B0DE-F4148A99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FC2FFF-8A6B-47DF-A00C-2215F231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BC203B-59CC-4308-A16D-04CA1DEA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230DCD-C8F8-46D9-ABCC-C92DA335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4C8E27-DFD1-4E86-A1FE-A072E5BF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929191-D202-4A8D-8DF9-266A934D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DBAAE1-3E07-42D7-9F91-B4884485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BD052-73A7-49A7-A548-44848A4D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556796-0682-47F9-A208-5D849372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15E179-C9FB-413D-B6B3-9044EBB2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A367DC-1C75-4ADD-976E-0376C09A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596602-8F91-46C3-9AF8-FA346A94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DDB1C8-904D-4895-8E0D-44717A0B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72B6CD-6BC1-4BC7-860D-1EFA5A99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BCE5C0-1DAC-4F75-9050-1AAB9CF7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D288AB-E237-44BC-8D87-C18E1007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9C8580-8AED-422E-B649-9DEDAEC2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027985-4C01-473F-BEA7-01B5279A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234DA-8738-4D95-BD54-A15CDC7D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6D390D-8587-406C-ACEE-D656C898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254662-5810-4AEA-A234-8A1CDA61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514BA8-F261-444D-AD12-E3FF0B5A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581DAA-B70E-437B-868F-373BA003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0B6BD2-94F3-4AE7-B602-C731617C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B98CBE-1D97-4A49-888D-4C443941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10FDA6-A988-42AF-9921-C15272A0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1C4602-D182-42B7-8BED-E770AE14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7BA14A-8FB1-4B3D-901C-566CA1F1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D1AD4D-CE0A-4C0C-8D77-87C9C8A4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B83EA-B870-4EED-98BD-C469D2ED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13D899-098A-493F-AC30-3CF85625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389D5D-8057-4A03-AF67-A71A2139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DB5027-AA36-4C80-AEB2-19169E39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05A82A-0AF8-4B03-986E-1DE6B140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8A3DEC-1DFB-4A68-BD41-122C40FD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985C8E-A99D-448D-BBF1-F38DF931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313E81-75B1-408B-84F7-0A917763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CDB94E-82C7-4436-AED1-CA5718B3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B0368F-BF3C-44E4-BA37-64F96669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E14D9D-3302-4BD0-BCC1-CF62F0CA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D9E82-C4E5-46C6-BD1C-7C4538E2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A71DA0-E20A-4C0B-921C-9D6F9A59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4905BA-FAC2-4FF3-A7E6-949FA040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AC5ECF-2F23-4BA6-9EE2-6DF7C03F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B32D14-22B7-44D1-BDCD-21521CE2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8321B2-1200-4B32-9144-70BAF19A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5DB250-5E5E-4932-B5BD-F6DF08BD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7E0DD5-9A89-484A-96C9-966982B6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B1A2CD-E07A-49C5-B9BE-3616CDF6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4E27D6-F595-4841-A4B4-26F096F4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3BB6E6-5FE3-47EF-8E70-3911865F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DFF81-1108-41E9-8C58-A21602C3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348C51-9C15-4956-82CA-92E720A1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E06A29-F36F-4D0C-8799-21306892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9EA989-0B0B-46F1-A25A-DF4D6C5E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D52431-E131-41B9-A7C5-5716E399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B831C8-65F2-43E7-84F5-F4E76994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6DE2C9-974E-40CB-969D-FBB11C44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45DCB1-C613-4153-AB2C-4EEB0661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D502C7-FB76-4D15-9ED8-BDD3F9BA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C212E0-315E-4AC6-97E4-E54B1332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9E9905-832C-4149-9AC5-DC9E245D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161-08F8-42BB-99EA-501E54C9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59C0A-EE49-4395-B933-A11D1DF9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05BCD7-D4F5-4F33-877B-D0269A58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DA9C7E-D861-4E8C-87A2-9B3A8B0C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D4D018-DE26-46DC-8109-A0EE0844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5F680B-5AEC-496A-A92E-A9F07967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E53356-F088-4C3F-AECD-EE9E10BC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8D8AA6-4AFF-463E-A9F4-9BC9CC73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DD9A2A-6B96-46B4-A273-AEB2DEF1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A22DD9-1F78-4D00-82D9-FD08E296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A24690-F650-47BB-9190-981FCD60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395EA9-0701-4B05-841C-30626976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778E-5BAF-4BB7-B61C-E08F3801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65B763-16F5-4808-BB98-4255155C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C59B3B-8D7A-4742-B3A5-69478127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18A5EB-C43A-46BB-BFC1-2395E4EC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DEFF2F-4E92-41AD-BEC4-45212409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0A87E4-3013-444C-AEA7-00672C77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480A1D-4EBD-49AA-949A-559E8010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AAE00F-530F-4E63-AAAB-F40F6294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C6BE14-40A7-4CD5-9AF3-FB408678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3AB112-D2B6-4822-90C6-DA1CBFBD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37B6D5-6439-40EA-B8E0-E671DBAE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930FD-2132-433B-8BF6-D5131AC0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FE4827-EE94-48C7-A1EE-8950C613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5763EE-7999-430F-96FE-5AC91878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7B7111-6557-4027-B740-B7C1AD74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9D3DCE-BFD7-4CD6-8FFF-1256C846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AC51CC-25CC-495F-BE5B-24C8FA87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96B480-DFC0-4A2E-8C8B-574189A5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C22BDA-8DB9-4251-8949-B64C1A9E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642781-A41E-487F-8B8C-4A4EE4C2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32B1B1-9FE6-4416-9E9B-8D4317E0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88C29B-3E70-4640-A5C7-AF0A6C12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07003-816F-414A-95E5-2D2815BF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239A3A-4838-4AC2-BDA3-0DCB1144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0F40FC-A54B-4767-B32C-9DD494E8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45ECFA-B9D3-455F-BF1F-B34A795A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86D87F-5DD5-4AA1-972B-A1170F50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2DB4A3-941D-4D6D-BA65-A737D9D7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9CC76F-C3B8-457D-9CD3-D487A769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E2B815-47FC-49D9-97CC-459BDEBD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8A7C21-A668-47DB-8E04-E0DED57E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06E0F1-FFCE-455A-9633-F417D7B9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76B6EB-A3F5-446B-A11A-36F526DF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32912-E7F5-4B58-8DC2-868EE683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2BB6F1-8330-4EBE-99B6-22C7DB1E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91B10D-20E8-4B6B-B5E2-57977A70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42D28B-0B9E-4CA6-9332-6BCD2EF7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3477C1-D500-4D61-B227-773563F3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2CCE29-FB1E-4506-80AD-A68825FC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C20B85-6852-46AB-AC45-04FFFB74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F758A1-98CA-4F5C-971A-A406FBB8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2A1551-E4C0-432F-8561-C985AE29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B1756A-6B5C-4061-BEDA-F34D10BD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688C37-BB1C-48B6-AD1C-D26B266A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C569A-49D4-4064-B214-82813AE3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999760-F7CB-4EDC-9237-4ABBA612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EA1DC9-D209-49A1-8A62-2DFB6EAE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CAA8F6-5DE7-4BE6-9241-83DD3750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BFA92B-F975-4922-8E3F-0C66EF07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D56363-947C-43D5-A860-10CE2574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13C7E5-6131-443B-B832-67D4F181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A563BD-B0AC-4953-9685-50E8723E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D688A6-F315-4AFC-A118-2B9A0C32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6050F2-9BD7-421D-A2FF-DBA0C021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2E13AE-365C-4F3B-92E0-39880331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774C0-06CB-446B-A1BF-11923697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1BBA1A-01A0-447C-AA2E-CD0A1461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0F3EBA-6D6F-46C2-A97B-516B0713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EB344D-543D-4545-9F46-FD258098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81583E-15E7-446F-BD10-F2961CC3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F54EB6-188B-4FDE-BCF5-BDC0D436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712B58-0715-46BA-8600-5DAA5705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0BAD4C-A456-4486-BE5B-D4F37ED5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C83CB9-F809-4F70-8080-C834FADC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24BAEC-8EAA-4BB1-A825-14C4DF3B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AA4A76-B5B3-4FE9-9C37-749F9D74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CA765-755F-4B75-B0A1-3173072C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6A3885-5EE3-4D27-9ED3-2538D1FF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1FC95A-56A5-4193-9435-126C0F61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7AF62F-F67F-4E57-B0D4-F95F89D7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8FCA4A-8B96-498A-882C-4DD9E09B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60ED17-E277-4D16-84AD-76B3E9A5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39F4FF-0081-43DF-846B-AB005DC2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A0B8C0-9E6E-46D4-B335-03B83347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13DA62-358C-4D4A-8820-D2C83110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0E996A-1201-4079-B8FC-7222FD20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AA0E72-EB90-4451-A7EA-8B0C5CCE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8113C-0137-49F0-A65F-F0FE1C54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22D5AE-A571-4D2E-9D8A-C88AF076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F94D13-437B-4112-A6FA-B696F00B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003741-A397-45E7-A6DC-51DD43C5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461AAE-6C0B-4230-9498-01F5ACB5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DD52D0-B2F8-46AE-93C8-42BBB80B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588B29-6336-42AA-816C-CAA5B7BF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F768E0-2FAA-4169-BD35-6EA5838C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BC46C0-8401-4A49-B673-6F9D2093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487BE7-CAE0-4D64-8BEB-E43C021D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499DBB-A2FC-4FCF-A213-6C95C9D1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24F91-260B-470C-A6F6-5E0C8BCA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3A9C27-4414-4E63-A7E5-E77E2F59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1A93E3-548E-4102-906B-0D2944F8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D6F73B-BEB7-4DDA-B5A8-83300846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4BE91D-F7E4-425F-BD88-55553163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C0B528-050A-4441-A92D-B6138953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BDF7DF-E67B-45C2-8DF8-6211F94A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339BAE-1E98-43C5-9F56-7AF72FEE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15D9AC-81C9-4FF4-ACD0-AC867CC7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CCF0244-1F4C-4B7D-8A3C-0F7EBB7B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E5894E-A890-443E-ACEB-3F138FD0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7D0-47B6-4F79-8432-0D3AB152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497A9-BB78-48F7-B2BD-925987B9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C5E9C2-A0D9-4CEA-96B0-37359A17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F65D65-3EDB-451A-B48D-1756949A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F89390-41E7-4481-AFD8-5DE66F64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A84FB6-EAD2-4A13-9893-FD502C26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4A473C-F59E-4076-B7B0-E19F5107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506C7F-0978-4E72-BB42-9B1666D9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AEC103-4262-4083-99BA-ACCD4559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E5B874-BC99-4C32-BB50-FB37E854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89C146-2FDA-476A-AF0D-1E0E63BD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9BC725D-F965-493A-A6C9-28EA0FA4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45599-5EB2-4737-AC28-7AD4A166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4ACDDC-B3C7-43BF-AD4E-442D4CC7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EE797D6-7CF0-49ED-82FE-7ED271BE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D26018-2EAE-420F-B01E-EB9DBA5A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259FE8-4229-4347-978D-9EACEEAC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048E63-A922-437D-85D1-252E32FD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6FC53E-3C3A-4358-B404-78D2F22D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2C009E-759C-411A-888C-BF762FA0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DB8CAA-54D3-4F43-B2B0-EE188F9E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C9D570F-A9EB-4DDE-A0B8-98C642D1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986CD1-7170-4CD8-A081-72287A11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4A59A-3649-4458-999B-D700F1B1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7EBAA4-3C57-45EF-9578-6198B112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2E3760-2F46-4614-BD10-1C94B3CE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77A40C-CC19-48EF-AE68-29998061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659264-B991-422F-BB6D-2DB3A748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AD5DBC-BB6F-4850-A7C5-95731864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EF21B1-1BC2-4784-A2A6-0A752D92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9DC42A-C902-41E9-8C82-CB096C7D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889DCE-6D23-4F03-B897-60B7F43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826C2D-DE9B-492C-A0AB-AB707AFB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024AD20-0943-4730-BB3B-3D2ABA17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B3109-6FC0-4EAB-8485-0580C2E5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F4507E-C809-4FE6-B28D-57C3EAF2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A5F0D4-C511-448E-B8AF-1895F860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6FDA88-4261-45CB-9385-DA6FDCFD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630C0C-DD69-4C09-8F0E-18396241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8C403BA-BB05-4BC8-9DC5-1E7EDB38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4D8E866-45A8-4122-A79A-1AAB027C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80322B7-07DB-43B8-9E94-86A0098E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F32708-0195-4811-828F-48F5F1E8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CE6CDE-A230-4307-AF7A-9276117D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9D04565-E8C9-4453-9297-583751C1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22FFA-3D0C-4CD8-83F8-295AF351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5884B4D-8ECE-4942-93A0-3676EC85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71FCC02-CD1C-4079-B422-75E48A95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D214AF5-164A-403C-B50F-60F2F0FD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C8BB4A-0A2A-4103-AE3A-6DBCE5BE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5E9CDC-FD7E-4C94-91A6-831EB57E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B9B2AC2-B6DF-450B-9683-0AD8E2B0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C316318-0BFC-4F1F-AF6D-D9C88270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2CC944C-FDE4-44B3-9628-ADD5345A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7105AC-3691-40F7-929E-25F89537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542DF60-022F-4238-BE3E-2F436CBF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640F7-20D1-49A5-B259-07D30BFE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4A7FEC0-2714-4BCA-8876-87E52BB3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630AE2-338A-4945-8B46-16848F3A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874544E-4B92-4B8C-8C34-42DE5163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093E94B-DB42-4854-9D27-1E68A909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5F413F6-D34E-49F5-9058-9FDB517A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0502286-E52F-463D-B2DD-C0022B08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2206DE1-ACF3-4BF6-A54C-20280015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A5BA15E-8FF0-4EF5-864E-C2B1061B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8AB0F84-B4DC-4D7A-A39D-A86C2EF4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CCF40FF-D8C8-436F-870C-26C69553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48A72-3C4C-4D0F-A27E-85A6B82D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B24397C-B18F-40E5-8AB3-4C389355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D4602AE-01FD-4C27-B6F0-AF3B7499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70C889-7D9B-4DD2-A785-57BE69BD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5A2DCE-B4FD-47B4-9400-58B22278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9E7805E-9F2F-4F34-8F6E-0FBCB81C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D01FC3A-688A-4157-89D0-93A4EDB4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7D839FF-BA62-4271-8D74-6D5AD442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C0DE53B-6999-419B-ADFF-E2546045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446C923-027E-49B2-B4BB-D2FE6188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F2788D4-ABCC-45E1-B423-E8617165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D0234-0257-41A5-B1B6-3E8CDCC2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619F1F1-2EF8-472D-93A5-E7B4B155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194B62-283C-46AC-844E-1999CBBB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83D46D-6ECA-4E47-844F-69D7B76F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4420DC9-795D-4C34-837D-9E0F1446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6C7358D-82CC-4A79-8DC1-60B4C4B3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34605F-DC41-4F3A-9401-D7C0ADE4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F61BE74-4588-485A-935F-C343DC7A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4789BBF-83BE-4E1F-9829-5383A067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D12C382-33F4-4966-AA56-62EABE25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A3E6212-86F9-43EF-AA61-9405C644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7CFBB-5502-4346-B359-06D6B0C0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705E5E1-9A62-4F27-8BFC-3CA83032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F228C9D-7E08-4B36-8AD3-3466A7B7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F379E4E-0826-452F-9009-D556D456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0E0D5B-3A07-473E-80F6-D90F7C6A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9B79CE0-CE33-4671-9FF1-D45935D7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95FA7F-4028-46CB-B2FC-A583862E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A9F22F4-4034-4BF6-A1BF-DC064DC8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CBFB3CD-18C1-4D3B-AD78-FB5EF47A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8B737CE-42FB-4DD5-A432-17F4052E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BBBE4A-32C8-4C71-890C-2EEF8D16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0BDCE-B29C-4420-ADA9-9919221F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D7E7F26-2252-40D3-984F-E023DCA2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CA641E9-D3D7-41AE-BA55-13ACD175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85EABE-2D96-43D9-87CC-70762E8D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4124C2B-E83D-49A2-B102-A623EC7E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887F27A-A9FF-4C41-9799-90119F06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E94A36C-647B-4281-8FEE-8C00EF75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BFB0098-4BF0-4B2F-94EE-F64E896A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41501D6-0F90-42D2-BB53-5886AD16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CC107A-5F39-417B-BB67-F5F8777A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858B3A1-C5B3-4026-BED0-60AE963C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A43-4C06-481D-8798-A314AB28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30F81-2B76-491B-A7C7-62787172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41F76D5-3452-4E63-9F53-74BA98C3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2075FA4-7E03-43B9-B61A-446F983A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8923B4-659B-475D-AFAD-38C39C76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3CBC990-FF57-47F9-9B77-F1EB9B6E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E31F119-C5D9-4531-8476-6A47A5C5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B0EC1FF-8888-4292-A3C6-7445B295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126AC8A-B66B-42F3-BAA3-EC10C6D7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50D9682-4E3A-4649-9BBB-489DC633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2992B0E-F83E-4588-89C0-F9782469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843CF84-1E3E-43F5-989E-56271DB1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DDE3B-2D53-40E7-BD5B-5EF3FA89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8A0E82A-ACEC-4ECA-9FE9-B00478B0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DE98248-68FC-4842-A8BA-FB8EAB88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A4421DC-F86E-460F-9D46-6BB22BD1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A65DA44-6107-48DD-B379-F5AE6E24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6012FA8-D57C-4363-BBBD-F8A6524C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302F27-8E01-4F26-9EC0-2DC2FCE3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5BD1204-C3D2-4B29-9BD7-5471B3EB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7E0B850-3670-43DB-897F-D267CDA4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90518DC-05EC-4E70-9A57-0A922F60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C1094BD-D729-405B-9D0A-0DAA1BD3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F80E7-C819-4CF2-8DC9-48C57EE5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6B54B9E-604A-46F3-955C-2F63FA6A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EE6AF2D-2F0A-43EA-8063-CAF4F29B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ACF62AB-3FDF-4671-BE55-EF907A19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E1EE06A-25E0-42FD-84B4-087B8378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176C8DE-E2AD-4888-8CBC-FA666527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69828A5-20F7-4C47-842A-CD43221D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AF9123-7720-48A0-95B9-2BD63645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741E393-E78D-4162-8974-D5F3C373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64EB7AA-98F4-4B78-B7BB-E7771644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AFA73-C34F-44ED-8276-152DF452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BC332-7EDD-4582-B016-F5758D18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13A27-1211-4231-81F0-71BB82A8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3C06C-4CB4-452D-AA5B-D31068FC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C0028-CAA1-4AE4-AAEE-7CC34BCB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21DFE-B176-4779-9144-54BA77C7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A2702-C8C8-4BAF-8320-21559BD4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CB0-ED47-40CD-A7F9-B34D2FAB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41AFD-F40C-43A0-8121-DA982090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7D1DC-2534-4ED4-B784-3104CED2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37A30-EABE-4043-99E4-3BBF210D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BCF3F-1260-41AE-8BA2-D13549EA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3382C-CDD9-4C6B-A416-5AC26FBB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E505A-4B3C-4F9A-936D-12B40C4A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68ABA-7D84-455D-8A47-2558A961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08E4E-560E-4E44-8035-49AC08FB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408BD-3280-4C9D-A3A6-0DAFDD3E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9DCE9-FF79-4356-8F47-89E30A94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FBC-0B50-415C-9288-A1A42EB3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0656E-7381-4CB0-8779-9081F3CA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5ED5A-9FB9-4734-92DD-C8AE3556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F610F-922F-4166-A7B4-4EAD8415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6A4DA-2728-4264-8222-F1AEE170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37F24-502A-4938-A8AE-7018B361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57AFE-9190-4A82-8DBC-6EA28FF1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09224-423B-4B99-867A-19B27009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51805-A576-4688-9A75-26798B44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82076-D257-4346-96AC-AEC1F344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EFB0D-39DA-4608-B97D-F6E720A5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679-3F29-4012-8E42-9B79B5D3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4C02D-8351-472B-A117-3972132A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FF20B-4B40-40DE-A326-20959F3D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E8CFE-CC1B-4B10-9AE8-5CA3E293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EFC85-CAD9-410C-9805-699C1922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2033D-E677-4556-85F8-9FE2045B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6D067-B0E0-4E22-B210-5AF3E264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23E11-E7BD-4A09-9141-CB2B3B26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BB19B-5C86-4110-A6F6-0CACF8B9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AD668-C575-475E-A073-979FDC6E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624AA-D621-4A7D-80CB-6258FFDE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CC3-FD5B-4FC9-91B2-0D603C34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9332A-73C7-4434-BE6C-013ADA56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A75B6-FC9C-48D3-BD21-E1612B72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90F92-1EE4-469F-B415-972D9382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CB60B-611D-4695-A070-998D1B40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044CB-5127-48B2-92AA-67A9B6E8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F10EF-DB47-4916-BCBA-15514CA6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C2A82-CF86-49C6-9E86-090DFDFE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B8390-BB28-46D7-B159-167E0221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0C70F-157E-4E7C-A1A5-1469AF88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2CFB4-A9C0-4CB8-BC6D-19333417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3251160"/>
            <a:ext cx="6756120" cy="1402920"/>
            <a:chOff x="0" y="3251160"/>
            <a:chExt cx="6756120" cy="1402920"/>
          </a:xfrm>
        </p:grpSpPr>
        <p:grpSp>
          <p:nvGrpSpPr>
            <p:cNvPr id="1" name="Group 1027"/>
            <p:cNvGrpSpPr/>
            <p:nvPr/>
          </p:nvGrpSpPr>
          <p:grpSpPr>
            <a:xfrm>
              <a:off x="219960" y="3394800"/>
              <a:ext cx="533880" cy="632880"/>
              <a:chOff x="219960" y="3394800"/>
              <a:chExt cx="533880" cy="632880"/>
            </a:xfrm>
          </p:grpSpPr>
          <p:sp>
            <p:nvSpPr>
              <p:cNvPr id="2" name="Rectangle 1028"/>
              <p:cNvSpPr/>
              <p:nvPr/>
            </p:nvSpPr>
            <p:spPr>
              <a:xfrm>
                <a:off x="219960" y="3394800"/>
                <a:ext cx="330120" cy="632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1029"/>
              <p:cNvSpPr/>
              <p:nvPr/>
            </p:nvSpPr>
            <p:spPr>
              <a:xfrm>
                <a:off x="509040" y="3394800"/>
                <a:ext cx="244800" cy="632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" name="Group 1030"/>
            <p:cNvGrpSpPr/>
            <p:nvPr/>
          </p:nvGrpSpPr>
          <p:grpSpPr>
            <a:xfrm>
              <a:off x="312840" y="3957840"/>
              <a:ext cx="554760" cy="632880"/>
              <a:chOff x="312840" y="3957840"/>
              <a:chExt cx="554760" cy="632880"/>
            </a:xfrm>
          </p:grpSpPr>
          <p:sp>
            <p:nvSpPr>
              <p:cNvPr id="5" name="Rectangle 1031"/>
              <p:cNvSpPr/>
              <p:nvPr/>
            </p:nvSpPr>
            <p:spPr>
              <a:xfrm>
                <a:off x="312840" y="3957840"/>
                <a:ext cx="317520" cy="632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Rectangle 1032"/>
              <p:cNvSpPr/>
              <p:nvPr/>
            </p:nvSpPr>
            <p:spPr>
              <a:xfrm>
                <a:off x="589320" y="3957840"/>
                <a:ext cx="278280" cy="6328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" name="Rectangle 1033"/>
            <p:cNvSpPr/>
            <p:nvPr/>
          </p:nvSpPr>
          <p:spPr>
            <a:xfrm>
              <a:off x="0" y="3860280"/>
              <a:ext cx="420120" cy="562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34"/>
            <p:cNvSpPr/>
            <p:nvPr/>
          </p:nvSpPr>
          <p:spPr>
            <a:xfrm>
              <a:off x="475920" y="3251160"/>
              <a:ext cx="23400" cy="14029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035"/>
            <p:cNvSpPr/>
            <p:nvPr/>
          </p:nvSpPr>
          <p:spPr>
            <a:xfrm flipV="1">
              <a:off x="236880" y="4346280"/>
              <a:ext cx="6519240" cy="73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B37B-1FCE-4A97-BB2E-37ECA3D710C2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63CC-055D-46F4-9E3D-5BECE30983B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05CB-7A04-42CB-9836-DD26CBAF28E5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74F9-BD6F-4DF2-9E59-0C953F2A580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2146-C45A-4081-8937-5182243F7AAA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E0A4-4ADA-4487-90DF-957D324292F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9FFB-7E99-466E-827B-FE293140160C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D40E-B7AD-48AD-9275-42B4696B4A4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5CC4-D373-47B7-8D1D-62536D0402EA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87DF-E328-4DBA-A6B9-51F6A5F84A0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43FD-7835-48B2-9DDD-868F85392C25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C374-F6DD-4C28-966D-539A29011E8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EABD-A00F-45B7-9588-E5170012DF5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5377-D8EE-4054-9B45-89D98E38D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DB9E-6EE3-4A2B-82B9-5FFD0D71AC6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5A0A-C3E0-4EA5-8D4C-522734E73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9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BEEA-C82D-4378-B316-7B69ECCF3D6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50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51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E66A-04A3-4AE6-9894-F5CD99DA6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2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999D-B96B-41AB-B992-968563B2EC7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3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4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90BD-A507-488C-AA4A-332705A2E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5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9685-9C05-48F0-B6B5-2A10EC26DE7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6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7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D64D-CD57-43C7-9971-65A2ED40F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12840" y="1465200"/>
            <a:ext cx="328680" cy="63180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00120" y="1465200"/>
            <a:ext cx="245880" cy="63180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06440" y="2027160"/>
            <a:ext cx="315720" cy="63360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84360" y="2027160"/>
            <a:ext cx="276120" cy="63360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95400" y="1930320"/>
            <a:ext cx="420480" cy="563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81c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71680" y="1320840"/>
            <a:ext cx="23760" cy="1403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31920" y="2374920"/>
            <a:ext cx="6170400" cy="428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14DF-7367-4285-9FCB-C807AC669DA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7205-0EC7-4BD6-90C5-CEF0B9EBE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8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52BC-63B8-45D2-A492-39DC25768ED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9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60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213D-94C9-4F39-A21C-73FCB06CC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61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DF81-84F5-41B2-ABBA-F63AFDB6670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62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63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5FAD-C4AD-47B6-8CE3-90F4C5377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dt" idx="64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9BCF-A2EC-437E-AC0B-CDC74EDCEE7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ftr" idx="65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 type="sldNum" idx="66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76C8-F932-41B4-9CA4-91133BC6B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7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904B-B37D-4ACD-9B59-7EBC7DF4037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8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9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C436-45E6-4C59-A801-00872BED3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70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76C6-7FC9-469E-AAD6-EBBD6977C1F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71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72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10FE-5674-4A24-B334-FB59F829D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73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C9A7-64AE-4310-AEC3-FCB8663CA5E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74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75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8B14-6FCC-4D50-8D3F-76B2129A7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dt" idx="76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489A-699B-4E58-9586-4406E6D75DB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ftr" idx="77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sldNum" idx="78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4ED2-856E-4661-9D6A-F84A78E15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 type="dt" idx="79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EA7F-F9DD-406D-A860-78288CE84E4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 type="ftr" idx="80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 type="sldNum" idx="81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3EDB-253B-4587-979A-8A4694F23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82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2ED5-88E1-4F54-91D9-7E85E858D50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83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84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18CD-26EA-4B65-8E73-36C580D14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 type="dt" idx="85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18CE-5F86-4C07-9A19-E1120E6E8AF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 type="ftr" idx="86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 type="sldNum" idx="87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2C49-0AF6-4337-AE6F-C863A8D31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9052-F57C-40A4-89C8-88D28D23CC4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81F0-DF53-4623-86D6-E736345ECD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dt" idx="88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51CF-8C29-48A1-B28D-2A3DFE88196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ftr" idx="89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 type="sldNum" idx="90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DE1F-56DD-4909-8473-AB5C7B73CD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 type="dt" idx="9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3DA2-2185-4E99-AE0C-9FB96263F9E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 type="ftr" idx="9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 type="sldNum" idx="9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0633-2B7D-405D-B351-E553AFCFA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 type="dt" idx="9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2F37-DB9C-4318-A1BD-E95781812F5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 type="ftr" idx="9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 type="sldNum" idx="9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3D8F-206E-47E6-A552-D6FF912EE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 type="dt" idx="9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2B9B-FF2B-462E-AAAA-6A98C12019A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 type="ftr" idx="9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 type="sldNum" idx="9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BEF5-4ABD-4F3F-9302-AC13F2CD5A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 type="dt" idx="10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ECB8-EACF-44AC-ADC3-A42AFA8B902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 type="ftr" idx="10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 type="sldNum" idx="10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AE7D-6DCC-4FDD-84D6-AF067E3996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 type="dt" idx="10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90A4-7560-433F-8AE2-74E4A367E8C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 type="ftr" idx="10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 type="sldNum" idx="10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268B-8D04-428E-9508-27BFD3E9DF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 type="dt" idx="106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02FD-69C3-4A67-B949-C005E77EDA2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 type="ftr" idx="107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 type="sldNum" idx="108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CAC1-C864-4413-9F46-50E487E900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 type="dt" idx="109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8C2B-E6A1-430C-9E98-8747FF0FCF4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 type="ftr" idx="110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 type="sldNum" idx="111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6812-A1A9-4280-9E34-3EA928704F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 type="dt" idx="112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28D8-8D90-4EDD-A8C3-704C8EE2191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 type="ftr" idx="113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 type="sldNum" idx="114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8AFB-4848-4CFC-9687-79D69727CB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 type="dt" idx="115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173C-B8F7-4EF9-8705-3A975B55AC2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 type="ftr" idx="116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 type="sldNum" idx="117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5134-3E1A-4159-9832-0D31FB4032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A678-4EA1-46E5-B124-809CFA3B0745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80E4-18FD-496B-A9ED-565C1099F0B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 type="dt" idx="118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493A-795B-4866-AB18-43C968D81EB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 type="ftr" idx="119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 type="sldNum" idx="120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0FE9-7C31-4870-A90D-8E333D1AEE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 type="dt" idx="12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288F-744F-4C98-8F0F-B921B010EB0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 type="ftr" idx="12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 type="sldNum" idx="12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726B-8D93-48E4-B821-6178D9C232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 type="dt" idx="12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899F-0AD4-4B11-82E4-FB487CD3711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 type="ftr" idx="12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 type="sldNum" idx="12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028A-F866-4D30-B3A0-03638487B0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 type="dt" idx="12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00E6-A9EB-4EE0-9701-1A16FB68192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 type="ftr" idx="12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 type="sldNum" idx="12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DE47-209D-436F-8AF9-74C00F8ACA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 type="dt" idx="13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EB00-51D8-4D0A-8130-D56A9D7DAD5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 type="ftr" idx="13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 type="sldNum" idx="13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6020-0B3F-4A5E-99C6-8E642F727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FAA6-B7BC-4634-9BEC-BE2028E41559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D9A3-DC23-485D-B090-62DF272D376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2B0C-2C66-46A5-87A1-0B496467E7B9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006F-6226-44E7-B562-AE6C18A40BC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E95D-38ED-4EB7-A0A0-422E94826813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71E0-BCA3-4A30-A569-7DA513965BB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5851-E535-4AE3-8779-4C6838D7BBAB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501A-A3F1-4F64-8DAD-8F9B844D05C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C48B-80FB-4FB6-9AEA-9A464FB39A96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BBD5-3837-47F8-BD0F-B45230EA0E9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umericalmethods.eng.usf.edu/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numericalmethods.eng.usf.edu/topics/simpsons_13rd_rule.html" TargetMode="External"/><Relationship Id="rId2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numericalmethods.eng.usf.edu/" TargetMode="External"/><Relationship Id="rId2" Type="http://schemas.openxmlformats.org/officeDocument/2006/relationships/slideLayout" Target="../slideLayouts/slideLayout36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71360" y="1117080"/>
            <a:ext cx="6515280" cy="772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Simpson’s 1/3</a:t>
            </a:r>
            <a:r>
              <a:rPr b="0" lang="en-US" sz="5400" spc="-1" strike="noStrike" baseline="30000">
                <a:solidFill>
                  <a:srgbClr val="333399"/>
                </a:solidFill>
                <a:latin typeface="Tahoma"/>
              </a:rPr>
              <a:t>rd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Rule of Integrat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    </a:t>
            </a:r>
            <a:br>
              <a:rPr sz="4800"/>
            </a:br>
            <a:br>
              <a:rPr sz="4800"/>
            </a:br>
            <a:r>
              <a:rPr b="0" lang="en-US" sz="4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numericalmethods.eng.usf.edu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341F-BA5E-41D3-8409-190DC173A7AD}" type="slidenum">
              <a:rPr b="0" lang="ar-SA" sz="1200" spc="-1" strike="noStrike">
                <a:solidFill>
                  <a:srgbClr val="898989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Text Box 3"/>
          <p:cNvSpPr/>
          <p:nvPr/>
        </p:nvSpPr>
        <p:spPr>
          <a:xfrm>
            <a:off x="399960" y="254016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tabulated values of the velocity of an objec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6" name=""/>
          <p:cNvGraphicFramePr/>
          <p:nvPr/>
        </p:nvGraphicFramePr>
        <p:xfrm>
          <a:off x="3029040" y="2641680"/>
          <a:ext cx="2993760" cy="1768320"/>
        </p:xfrm>
        <a:graphic>
          <a:graphicData uri="http://schemas.openxmlformats.org/drawingml/2006/table">
            <a:tbl>
              <a:tblPr/>
              <a:tblGrid>
                <a:gridCol w="1260360"/>
                <a:gridCol w="577800"/>
                <a:gridCol w="577800"/>
                <a:gridCol w="577800"/>
              </a:tblGrid>
              <a:tr h="88416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 (s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locity (m/s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7" name="Text Box 24"/>
          <p:cNvSpPr/>
          <p:nvPr/>
        </p:nvSpPr>
        <p:spPr>
          <a:xfrm>
            <a:off x="514440" y="6400800"/>
            <a:ext cx="5429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Distance = integral of the veloc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8" name="Object 25"/>
              <p:cNvSpPr txBox="1"/>
              <p:nvPr/>
            </p:nvSpPr>
            <p:spPr>
              <a:xfrm>
                <a:off x="1303200" y="7051680"/>
                <a:ext cx="5097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tance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9" name="Rectangle 9"/>
          <p:cNvSpPr/>
          <p:nvPr/>
        </p:nvSpPr>
        <p:spPr>
          <a:xfrm>
            <a:off x="457200" y="44197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n estimate of the distance traveled in the interval [0,2]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0" name="Ink 3"/>
          <p:cNvSpPr/>
          <p:nvPr/>
        </p:nvSpPr>
        <p:spPr>
          <a:xfrm>
            <a:off x="4394160" y="2441520"/>
            <a:ext cx="214200" cy="154080"/>
          </a:xfrm>
          <a:custGeom>
            <a:avLst/>
            <a:gdLst/>
            <a:ahLst/>
            <a:rect l="l" t="t" r="r" b="b"/>
            <a:pathLst>
              <a:path w="596" h="431">
                <a:moveTo>
                  <a:pt x="12601" y="6846"/>
                </a:moveTo>
                <a:lnTo>
                  <a:pt x="12558" y="6813"/>
                </a:lnTo>
                <a:lnTo>
                  <a:pt x="12541" y="6785"/>
                </a:lnTo>
                <a:lnTo>
                  <a:pt x="12502" y="6780"/>
                </a:lnTo>
                <a:lnTo>
                  <a:pt x="12433" y="6772"/>
                </a:lnTo>
                <a:lnTo>
                  <a:pt x="12353" y="6769"/>
                </a:lnTo>
                <a:lnTo>
                  <a:pt x="12303" y="6813"/>
                </a:lnTo>
                <a:lnTo>
                  <a:pt x="12286" y="6828"/>
                </a:lnTo>
                <a:lnTo>
                  <a:pt x="12208" y="6906"/>
                </a:lnTo>
                <a:lnTo>
                  <a:pt x="12204" y="6912"/>
                </a:lnTo>
                <a:lnTo>
                  <a:pt x="12163" y="6973"/>
                </a:lnTo>
                <a:lnTo>
                  <a:pt x="12231" y="7032"/>
                </a:lnTo>
                <a:lnTo>
                  <a:pt x="12237" y="7045"/>
                </a:lnTo>
                <a:lnTo>
                  <a:pt x="12237" y="7078"/>
                </a:lnTo>
                <a:lnTo>
                  <a:pt x="12237" y="7089"/>
                </a:lnTo>
                <a:lnTo>
                  <a:pt x="12270" y="7078"/>
                </a:lnTo>
                <a:lnTo>
                  <a:pt x="12285" y="7034"/>
                </a:lnTo>
                <a:lnTo>
                  <a:pt x="12323" y="7037"/>
                </a:lnTo>
                <a:lnTo>
                  <a:pt x="12336" y="7011"/>
                </a:lnTo>
                <a:lnTo>
                  <a:pt x="12340" y="7002"/>
                </a:lnTo>
                <a:lnTo>
                  <a:pt x="12362" y="6918"/>
                </a:lnTo>
                <a:lnTo>
                  <a:pt x="12369" y="6912"/>
                </a:lnTo>
                <a:lnTo>
                  <a:pt x="12399" y="6888"/>
                </a:lnTo>
                <a:lnTo>
                  <a:pt x="12402" y="6834"/>
                </a:lnTo>
                <a:lnTo>
                  <a:pt x="12402" y="6879"/>
                </a:lnTo>
                <a:lnTo>
                  <a:pt x="12402" y="6978"/>
                </a:lnTo>
                <a:lnTo>
                  <a:pt x="12389" y="7064"/>
                </a:lnTo>
                <a:lnTo>
                  <a:pt x="12435" y="7144"/>
                </a:lnTo>
                <a:lnTo>
                  <a:pt x="12470" y="7205"/>
                </a:lnTo>
                <a:lnTo>
                  <a:pt x="12553" y="7250"/>
                </a:lnTo>
                <a:lnTo>
                  <a:pt x="12634" y="7210"/>
                </a:lnTo>
                <a:lnTo>
                  <a:pt x="12698" y="7178"/>
                </a:lnTo>
                <a:lnTo>
                  <a:pt x="12780" y="7201"/>
                </a:lnTo>
                <a:lnTo>
                  <a:pt x="12799" y="7144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1" name="Ink 4"/>
          <p:cNvSpPr/>
          <p:nvPr/>
        </p:nvSpPr>
        <p:spPr>
          <a:xfrm>
            <a:off x="4976640" y="2251080"/>
            <a:ext cx="333720" cy="344520"/>
          </a:xfrm>
          <a:custGeom>
            <a:avLst/>
            <a:gdLst/>
            <a:ahLst/>
            <a:rect l="l" t="t" r="r" b="b"/>
            <a:pathLst>
              <a:path w="928" h="960">
                <a:moveTo>
                  <a:pt x="14023" y="6350"/>
                </a:moveTo>
                <a:cubicBezTo>
                  <a:pt x="14011" y="6314"/>
                  <a:pt x="13999" y="6289"/>
                  <a:pt x="13957" y="6284"/>
                </a:cubicBezTo>
                <a:cubicBezTo>
                  <a:pt x="13882" y="6275"/>
                  <a:pt x="13912" y="6310"/>
                  <a:pt x="13858" y="6317"/>
                </a:cubicBezTo>
                <a:cubicBezTo>
                  <a:pt x="13803" y="6324"/>
                  <a:pt x="13824" y="6363"/>
                  <a:pt x="13824" y="6416"/>
                </a:cubicBezTo>
                <a:cubicBezTo>
                  <a:pt x="13824" y="6449"/>
                  <a:pt x="13824" y="6482"/>
                  <a:pt x="13824" y="6515"/>
                </a:cubicBezTo>
                <a:cubicBezTo>
                  <a:pt x="13869" y="6515"/>
                  <a:pt x="13932" y="6532"/>
                  <a:pt x="13957" y="6482"/>
                </a:cubicBezTo>
                <a:cubicBezTo>
                  <a:pt x="13985" y="6426"/>
                  <a:pt x="13924" y="6438"/>
                  <a:pt x="13990" y="6416"/>
                </a:cubicBezTo>
                <a:cubicBezTo>
                  <a:pt x="13990" y="6310"/>
                  <a:pt x="13983" y="6503"/>
                  <a:pt x="13990" y="6515"/>
                </a:cubicBezTo>
                <a:cubicBezTo>
                  <a:pt x="14018" y="6565"/>
                  <a:pt x="14075" y="6548"/>
                  <a:pt x="14122" y="6548"/>
                </a:cubicBezTo>
                <a:cubicBezTo>
                  <a:pt x="14133" y="6548"/>
                  <a:pt x="14144" y="6548"/>
                  <a:pt x="14155" y="6548"/>
                </a:cubicBezTo>
              </a:path>
              <a:path w="928" h="960">
                <a:moveTo>
                  <a:pt x="14321" y="6284"/>
                </a:moveTo>
                <a:cubicBezTo>
                  <a:pt x="14321" y="6361"/>
                  <a:pt x="14321" y="6438"/>
                  <a:pt x="14321" y="6515"/>
                </a:cubicBezTo>
              </a:path>
              <a:path w="928" h="960">
                <a:moveTo>
                  <a:pt x="14188" y="6482"/>
                </a:moveTo>
                <a:cubicBezTo>
                  <a:pt x="14188" y="6471"/>
                  <a:pt x="14188" y="6460"/>
                  <a:pt x="14188" y="6449"/>
                </a:cubicBezTo>
                <a:cubicBezTo>
                  <a:pt x="14265" y="6449"/>
                  <a:pt x="14343" y="6449"/>
                  <a:pt x="14420" y="6449"/>
                </a:cubicBezTo>
              </a:path>
              <a:path w="928" h="960">
                <a:moveTo>
                  <a:pt x="14519" y="6251"/>
                </a:moveTo>
                <a:cubicBezTo>
                  <a:pt x="14519" y="6317"/>
                  <a:pt x="14519" y="6383"/>
                  <a:pt x="14519" y="6449"/>
                </a:cubicBezTo>
                <a:cubicBezTo>
                  <a:pt x="14527" y="6415"/>
                  <a:pt x="14570" y="6357"/>
                  <a:pt x="14585" y="6350"/>
                </a:cubicBezTo>
                <a:cubicBezTo>
                  <a:pt x="14596" y="6350"/>
                  <a:pt x="14607" y="6350"/>
                  <a:pt x="14618" y="6350"/>
                </a:cubicBezTo>
                <a:cubicBezTo>
                  <a:pt x="14655" y="6362"/>
                  <a:pt x="14680" y="6395"/>
                  <a:pt x="14684" y="6449"/>
                </a:cubicBezTo>
                <a:cubicBezTo>
                  <a:pt x="14687" y="6488"/>
                  <a:pt x="14662" y="6559"/>
                  <a:pt x="14618" y="6582"/>
                </a:cubicBezTo>
                <a:cubicBezTo>
                  <a:pt x="14576" y="6604"/>
                  <a:pt x="14584" y="6615"/>
                  <a:pt x="14519" y="6615"/>
                </a:cubicBezTo>
                <a:cubicBezTo>
                  <a:pt x="14465" y="6615"/>
                  <a:pt x="14502" y="6598"/>
                  <a:pt x="14453" y="6582"/>
                </a:cubicBezTo>
              </a:path>
              <a:path w="928" h="960">
                <a:moveTo>
                  <a:pt x="13990" y="6714"/>
                </a:moveTo>
                <a:cubicBezTo>
                  <a:pt x="14244" y="6714"/>
                  <a:pt x="14497" y="6714"/>
                  <a:pt x="14751" y="6714"/>
                </a:cubicBezTo>
                <a:cubicBezTo>
                  <a:pt x="14733" y="6767"/>
                  <a:pt x="14725" y="6747"/>
                  <a:pt x="14651" y="6747"/>
                </a:cubicBezTo>
              </a:path>
              <a:path w="928" h="960">
                <a:moveTo>
                  <a:pt x="14056" y="6978"/>
                </a:moveTo>
                <a:cubicBezTo>
                  <a:pt x="14066" y="6975"/>
                  <a:pt x="14185" y="6949"/>
                  <a:pt x="14188" y="6945"/>
                </a:cubicBezTo>
                <a:cubicBezTo>
                  <a:pt x="14188" y="6912"/>
                  <a:pt x="14188" y="6901"/>
                  <a:pt x="14221" y="6912"/>
                </a:cubicBezTo>
                <a:cubicBezTo>
                  <a:pt x="14221" y="7001"/>
                  <a:pt x="14211" y="7066"/>
                  <a:pt x="14188" y="7111"/>
                </a:cubicBezTo>
                <a:cubicBezTo>
                  <a:pt x="14166" y="7155"/>
                  <a:pt x="14171" y="7130"/>
                  <a:pt x="14155" y="7177"/>
                </a:cubicBezTo>
                <a:cubicBezTo>
                  <a:pt x="14269" y="7193"/>
                  <a:pt x="14370" y="7210"/>
                  <a:pt x="14486" y="7210"/>
                </a:cubicBezTo>
                <a:cubicBezTo>
                  <a:pt x="14497" y="7210"/>
                  <a:pt x="14607" y="7210"/>
                  <a:pt x="14519" y="7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2" name="Ink 5"/>
          <p:cNvSpPr/>
          <p:nvPr/>
        </p:nvSpPr>
        <p:spPr>
          <a:xfrm>
            <a:off x="5572080" y="2405160"/>
            <a:ext cx="166680" cy="261720"/>
          </a:xfrm>
          <a:custGeom>
            <a:avLst/>
            <a:gdLst/>
            <a:ahLst/>
            <a:rect l="l" t="t" r="r" b="b"/>
            <a:pathLst>
              <a:path w="464" h="728">
                <a:moveTo>
                  <a:pt x="15577" y="6681"/>
                </a:moveTo>
                <a:lnTo>
                  <a:pt x="15625" y="6713"/>
                </a:lnTo>
                <a:lnTo>
                  <a:pt x="15610" y="6771"/>
                </a:lnTo>
                <a:lnTo>
                  <a:pt x="15610" y="6846"/>
                </a:lnTo>
                <a:lnTo>
                  <a:pt x="15610" y="7011"/>
                </a:lnTo>
                <a:lnTo>
                  <a:pt x="15610" y="7177"/>
                </a:lnTo>
                <a:lnTo>
                  <a:pt x="15610" y="7342"/>
                </a:lnTo>
                <a:lnTo>
                  <a:pt x="15680" y="7342"/>
                </a:lnTo>
                <a:lnTo>
                  <a:pt x="15677" y="7346"/>
                </a:lnTo>
                <a:lnTo>
                  <a:pt x="15677" y="7276"/>
                </a:lnTo>
                <a:lnTo>
                  <a:pt x="15677" y="7202"/>
                </a:lnTo>
                <a:lnTo>
                  <a:pt x="15694" y="7177"/>
                </a:lnTo>
                <a:lnTo>
                  <a:pt x="15710" y="7144"/>
                </a:lnTo>
                <a:lnTo>
                  <a:pt x="15727" y="7111"/>
                </a:lnTo>
                <a:lnTo>
                  <a:pt x="15740" y="7070"/>
                </a:lnTo>
                <a:lnTo>
                  <a:pt x="15743" y="7045"/>
                </a:lnTo>
                <a:lnTo>
                  <a:pt x="15750" y="6990"/>
                </a:lnTo>
                <a:lnTo>
                  <a:pt x="15789" y="7011"/>
                </a:lnTo>
                <a:lnTo>
                  <a:pt x="15842" y="7011"/>
                </a:lnTo>
                <a:lnTo>
                  <a:pt x="15941" y="7011"/>
                </a:lnTo>
                <a:lnTo>
                  <a:pt x="15872" y="7082"/>
                </a:lnTo>
                <a:lnTo>
                  <a:pt x="15908" y="7111"/>
                </a:lnTo>
                <a:lnTo>
                  <a:pt x="15946" y="7141"/>
                </a:lnTo>
                <a:lnTo>
                  <a:pt x="15941" y="7140"/>
                </a:lnTo>
                <a:lnTo>
                  <a:pt x="15941" y="7210"/>
                </a:lnTo>
                <a:lnTo>
                  <a:pt x="15941" y="7282"/>
                </a:lnTo>
                <a:lnTo>
                  <a:pt x="15932" y="7276"/>
                </a:lnTo>
                <a:lnTo>
                  <a:pt x="15908" y="7309"/>
                </a:lnTo>
                <a:lnTo>
                  <a:pt x="15866" y="7366"/>
                </a:lnTo>
                <a:lnTo>
                  <a:pt x="15851" y="7400"/>
                </a:lnTo>
                <a:lnTo>
                  <a:pt x="15776" y="7408"/>
                </a:lnTo>
                <a:lnTo>
                  <a:pt x="15710" y="7415"/>
                </a:lnTo>
                <a:lnTo>
                  <a:pt x="15711" y="7347"/>
                </a:lnTo>
                <a:lnTo>
                  <a:pt x="15677" y="7309"/>
                </a:lnTo>
                <a:lnTo>
                  <a:pt x="15613" y="7238"/>
                </a:lnTo>
                <a:lnTo>
                  <a:pt x="15568" y="7251"/>
                </a:lnTo>
                <a:lnTo>
                  <a:pt x="15478" y="7243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EDD8-C95A-45E6-B00F-FD6AB71FE0F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Object 56"/>
              <p:cNvSpPr txBox="1"/>
              <p:nvPr/>
            </p:nvSpPr>
            <p:spPr>
              <a:xfrm>
                <a:off x="1281240" y="1646280"/>
                <a:ext cx="27288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Object 55"/>
              <p:cNvSpPr txBox="1"/>
              <p:nvPr/>
            </p:nvSpPr>
            <p:spPr>
              <a:xfrm>
                <a:off x="1168560" y="2743200"/>
                <a:ext cx="47606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Object 54"/>
              <p:cNvSpPr txBox="1"/>
              <p:nvPr/>
            </p:nvSpPr>
            <p:spPr>
              <a:xfrm>
                <a:off x="1654200" y="3886200"/>
                <a:ext cx="41576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Object 53"/>
              <p:cNvSpPr txBox="1"/>
              <p:nvPr/>
            </p:nvSpPr>
            <p:spPr>
              <a:xfrm>
                <a:off x="1523880" y="5529240"/>
                <a:ext cx="48006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Object 52"/>
              <p:cNvSpPr txBox="1"/>
              <p:nvPr/>
            </p:nvSpPr>
            <p:spPr>
              <a:xfrm>
                <a:off x="2028960" y="6705720"/>
                <a:ext cx="32288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1" name="Ink 10"/>
          <p:cNvSpPr/>
          <p:nvPr/>
        </p:nvSpPr>
        <p:spPr>
          <a:xfrm>
            <a:off x="2286000" y="2357280"/>
            <a:ext cx="108000" cy="190800"/>
          </a:xfrm>
          <a:custGeom>
            <a:avLst/>
            <a:gdLst/>
            <a:ahLst/>
            <a:rect l="l" t="t" r="r" b="b"/>
            <a:pathLst>
              <a:path w="299" h="531">
                <a:moveTo>
                  <a:pt x="6383" y="6714"/>
                </a:moveTo>
                <a:lnTo>
                  <a:pt x="6383" y="6835"/>
                </a:lnTo>
                <a:lnTo>
                  <a:pt x="6383" y="6957"/>
                </a:lnTo>
                <a:lnTo>
                  <a:pt x="6383" y="7078"/>
                </a:lnTo>
                <a:lnTo>
                  <a:pt x="6460" y="7078"/>
                </a:lnTo>
                <a:lnTo>
                  <a:pt x="6538" y="7078"/>
                </a:lnTo>
                <a:lnTo>
                  <a:pt x="6615" y="7078"/>
                </a:lnTo>
                <a:lnTo>
                  <a:pt x="6615" y="7011"/>
                </a:lnTo>
                <a:lnTo>
                  <a:pt x="6630" y="6999"/>
                </a:lnTo>
                <a:lnTo>
                  <a:pt x="6648" y="6945"/>
                </a:lnTo>
                <a:lnTo>
                  <a:pt x="6677" y="6857"/>
                </a:lnTo>
                <a:lnTo>
                  <a:pt x="6635" y="6721"/>
                </a:lnTo>
                <a:lnTo>
                  <a:pt x="6615" y="6681"/>
                </a:lnTo>
                <a:lnTo>
                  <a:pt x="6588" y="6628"/>
                </a:lnTo>
                <a:lnTo>
                  <a:pt x="6628" y="6608"/>
                </a:lnTo>
                <a:lnTo>
                  <a:pt x="6548" y="6582"/>
                </a:lnTo>
                <a:lnTo>
                  <a:pt x="6497" y="6565"/>
                </a:lnTo>
                <a:lnTo>
                  <a:pt x="6521" y="6548"/>
                </a:lnTo>
                <a:lnTo>
                  <a:pt x="6449" y="6548"/>
                </a:lnTo>
                <a:lnTo>
                  <a:pt x="6438" y="6548"/>
                </a:lnTo>
                <a:lnTo>
                  <a:pt x="6427" y="6548"/>
                </a:lnTo>
                <a:lnTo>
                  <a:pt x="6416" y="6548"/>
                </a:lnTo>
                <a:lnTo>
                  <a:pt x="6416" y="6623"/>
                </a:lnTo>
                <a:lnTo>
                  <a:pt x="6390" y="6594"/>
                </a:lnTo>
                <a:lnTo>
                  <a:pt x="6383" y="6648"/>
                </a:lnTo>
                <a:lnTo>
                  <a:pt x="6375" y="6711"/>
                </a:lnTo>
                <a:lnTo>
                  <a:pt x="6364" y="6720"/>
                </a:lnTo>
                <a:lnTo>
                  <a:pt x="6350" y="6747"/>
                </a:lnTo>
                <a:lnTo>
                  <a:pt x="6336" y="6774"/>
                </a:lnTo>
                <a:lnTo>
                  <a:pt x="6350" y="6848"/>
                </a:lnTo>
                <a:lnTo>
                  <a:pt x="6350" y="6879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Footer Placeholder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Slide Number Placeholder 2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AAFE-4DF1-4281-8B3D-2C722CF3AA4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Rectangle 7"/>
          <p:cNvSpPr/>
          <p:nvPr/>
        </p:nvSpPr>
        <p:spPr>
          <a:xfrm>
            <a:off x="0" y="4648320"/>
            <a:ext cx="6858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our segment Simpson’s 1/3rd Rule to find the approximate value 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Rectangle 2"/>
          <p:cNvSpPr/>
          <p:nvPr/>
        </p:nvSpPr>
        <p:spPr>
          <a:xfrm>
            <a:off x="520560" y="304920"/>
            <a:ext cx="584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Rectangle 3"/>
          <p:cNvSpPr/>
          <p:nvPr/>
        </p:nvSpPr>
        <p:spPr>
          <a:xfrm>
            <a:off x="228600" y="1143000"/>
            <a:ext cx="6114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4-segment Simpson’s 1/3rd Rule to approximate the dis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Slide Number Placeholder 7"/>
          <p:cNvSpPr/>
          <p:nvPr/>
        </p:nvSpPr>
        <p:spPr>
          <a:xfrm>
            <a:off x="4572000" y="795672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330E-5430-4921-A263-41B20FF3C53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Text Box 4"/>
          <p:cNvSpPr/>
          <p:nvPr/>
        </p:nvSpPr>
        <p:spPr>
          <a:xfrm>
            <a:off x="685800" y="2133720"/>
            <a:ext cx="52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ed by a rocket from t= 8 to t=30 as given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9" name="Object 5"/>
              <p:cNvSpPr txBox="1"/>
              <p:nvPr/>
            </p:nvSpPr>
            <p:spPr>
              <a:xfrm>
                <a:off x="0" y="3124080"/>
                <a:ext cx="6858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0000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000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00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4288-C3B4-4546-BC0C-52DA3A19212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3" name="Object 56" descr=""/>
          <p:cNvPicPr/>
          <p:nvPr/>
        </p:nvPicPr>
        <p:blipFill>
          <a:blip r:embed="rId1"/>
          <a:stretch/>
        </p:blipFill>
        <p:spPr>
          <a:xfrm>
            <a:off x="1509840" y="1722600"/>
            <a:ext cx="2236680" cy="974520"/>
          </a:xfrm>
          <a:prstGeom prst="rect">
            <a:avLst/>
          </a:prstGeom>
          <a:ln w="0">
            <a:noFill/>
          </a:ln>
        </p:spPr>
      </p:pic>
      <p:pic>
        <p:nvPicPr>
          <p:cNvPr id="1964" name="Object 55" descr=""/>
          <p:cNvPicPr/>
          <p:nvPr/>
        </p:nvPicPr>
        <p:blipFill>
          <a:blip r:embed="rId2"/>
          <a:stretch/>
        </p:blipFill>
        <p:spPr>
          <a:xfrm>
            <a:off x="595440" y="2590920"/>
            <a:ext cx="5271840" cy="1038240"/>
          </a:xfrm>
          <a:prstGeom prst="rect">
            <a:avLst/>
          </a:prstGeom>
          <a:ln w="0">
            <a:noFill/>
          </a:ln>
        </p:spPr>
      </p:pic>
      <p:pic>
        <p:nvPicPr>
          <p:cNvPr id="1965" name="Object 54" descr=""/>
          <p:cNvPicPr/>
          <p:nvPr/>
        </p:nvPicPr>
        <p:blipFill>
          <a:blip r:embed="rId3"/>
          <a:stretch/>
        </p:blipFill>
        <p:spPr>
          <a:xfrm>
            <a:off x="1295280" y="4038480"/>
            <a:ext cx="4572000" cy="1054080"/>
          </a:xfrm>
          <a:prstGeom prst="rect">
            <a:avLst/>
          </a:prstGeom>
          <a:ln w="0">
            <a:noFill/>
          </a:ln>
        </p:spPr>
      </p:pic>
      <p:pic>
        <p:nvPicPr>
          <p:cNvPr id="1966" name="Object 53" descr=""/>
          <p:cNvPicPr/>
          <p:nvPr/>
        </p:nvPicPr>
        <p:blipFill>
          <a:blip r:embed="rId4"/>
          <a:stretch/>
        </p:blipFill>
        <p:spPr>
          <a:xfrm>
            <a:off x="609480" y="5132520"/>
            <a:ext cx="5791320" cy="1116000"/>
          </a:xfrm>
          <a:prstGeom prst="rect">
            <a:avLst/>
          </a:prstGeom>
          <a:ln w="0">
            <a:noFill/>
          </a:ln>
        </p:spPr>
      </p:pic>
      <p:pic>
        <p:nvPicPr>
          <p:cNvPr id="1967" name="Object 52" descr=""/>
          <p:cNvPicPr/>
          <p:nvPr/>
        </p:nvPicPr>
        <p:blipFill>
          <a:blip r:embed="rId5"/>
          <a:stretch/>
        </p:blipFill>
        <p:spPr>
          <a:xfrm>
            <a:off x="1219320" y="6629400"/>
            <a:ext cx="2743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8F31-46AF-4C9D-BCC2-66825F0C787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Rectangle 4"/>
          <p:cNvSpPr/>
          <p:nvPr/>
        </p:nvSpPr>
        <p:spPr>
          <a:xfrm>
            <a:off x="514440" y="3657600"/>
            <a:ext cx="58291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Multiple Segment Simpson’s 1/3rd Ru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Segment Simpson’s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4454-7FC0-4931-9A7C-B6577E36659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Rectangle 343"/>
          <p:cNvSpPr/>
          <p:nvPr/>
        </p:nvSpPr>
        <p:spPr>
          <a:xfrm>
            <a:off x="0" y="1999080"/>
            <a:ext cx="7467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Just like in multiple segment Trapezoidal Rule,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one can subdivide the interval [a, b] into n segments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5" name="Text Box 344"/>
          <p:cNvSpPr/>
          <p:nvPr/>
        </p:nvSpPr>
        <p:spPr>
          <a:xfrm>
            <a:off x="0" y="2819520"/>
            <a:ext cx="655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58ed5"/>
                </a:solidFill>
                <a:latin typeface="Tahoma"/>
              </a:rPr>
              <a:t>Then apply Simpson’s 1/3rd Rule repeatedly over every two segments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Text Box 345"/>
          <p:cNvSpPr/>
          <p:nvPr/>
        </p:nvSpPr>
        <p:spPr>
          <a:xfrm>
            <a:off x="0" y="3581280"/>
            <a:ext cx="6400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0000"/>
                </a:solidFill>
                <a:latin typeface="Tahoma"/>
              </a:rPr>
              <a:t>Note that n needs to be even. 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Divide interval [a, b] into  equal segments, hence the segment width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7" name="Object 347"/>
              <p:cNvSpPr txBox="1"/>
              <p:nvPr/>
            </p:nvSpPr>
            <p:spPr>
              <a:xfrm>
                <a:off x="914400" y="4419720"/>
                <a:ext cx="14479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Object 349"/>
              <p:cNvSpPr txBox="1"/>
              <p:nvPr/>
            </p:nvSpPr>
            <p:spPr>
              <a:xfrm>
                <a:off x="609480" y="5410080"/>
                <a:ext cx="35816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79" name="Rectangle 351"/>
          <p:cNvSpPr/>
          <p:nvPr/>
        </p:nvSpPr>
        <p:spPr>
          <a:xfrm>
            <a:off x="207000" y="6869520"/>
            <a:ext cx="889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0" name="Object 353"/>
              <p:cNvSpPr txBox="1"/>
              <p:nvPr/>
            </p:nvSpPr>
            <p:spPr>
              <a:xfrm>
                <a:off x="1066680" y="6858000"/>
                <a:ext cx="1524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Object 352"/>
              <p:cNvSpPr txBox="1"/>
              <p:nvPr/>
            </p:nvSpPr>
            <p:spPr>
              <a:xfrm>
                <a:off x="3124080" y="6858000"/>
                <a:ext cx="14479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76"/>
          <p:cNvGrpSpPr/>
          <p:nvPr/>
        </p:nvGrpSpPr>
        <p:grpSpPr>
          <a:xfrm>
            <a:off x="3809880" y="838080"/>
            <a:ext cx="5429160" cy="4475160"/>
            <a:chOff x="3809880" y="838080"/>
            <a:chExt cx="5429160" cy="4475160"/>
          </a:xfrm>
        </p:grpSpPr>
        <p:sp>
          <p:nvSpPr>
            <p:cNvPr id="1983" name="AutoShape 77"/>
            <p:cNvSpPr/>
            <p:nvPr/>
          </p:nvSpPr>
          <p:spPr>
            <a:xfrm>
              <a:off x="5257440" y="838080"/>
              <a:ext cx="3981600" cy="44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4" name="Text Box 78"/>
            <p:cNvSpPr/>
            <p:nvPr/>
          </p:nvSpPr>
          <p:spPr>
            <a:xfrm>
              <a:off x="3809880" y="1605600"/>
              <a:ext cx="714960" cy="4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f(x)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Line 79"/>
            <p:cNvSpPr/>
            <p:nvPr/>
          </p:nvSpPr>
          <p:spPr>
            <a:xfrm flipV="1">
              <a:off x="4325400" y="1605600"/>
              <a:ext cx="0" cy="309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Line 80"/>
            <p:cNvSpPr/>
            <p:nvPr/>
          </p:nvSpPr>
          <p:spPr>
            <a:xfrm>
              <a:off x="4008240" y="4475160"/>
              <a:ext cx="29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7" name="Freeform 81"/>
            <p:cNvSpPr/>
            <p:nvPr/>
          </p:nvSpPr>
          <p:spPr>
            <a:xfrm>
              <a:off x="4102200" y="2265840"/>
              <a:ext cx="2623680" cy="1463040"/>
            </a:xfrm>
            <a:custGeom>
              <a:avLst/>
              <a:gdLst>
                <a:gd name="textAreaLeft" fmla="*/ 0 w 2623680"/>
                <a:gd name="textAreaRight" fmla="*/ 2624040 w 2623680"/>
                <a:gd name="textAreaTop" fmla="*/ 0 h 1463040"/>
                <a:gd name="textAreaBottom" fmla="*/ 1463400 h 1463040"/>
              </a:gdLst>
              <a:ahLst/>
              <a:rect l="textAreaLeft" t="textAreaTop" r="textAreaRight" b="textAreaBottom"/>
              <a:pathLst>
                <a:path w="3360" h="1530">
                  <a:moveTo>
                    <a:pt x="0" y="1530"/>
                  </a:moveTo>
                  <a:cubicBezTo>
                    <a:pt x="295" y="1158"/>
                    <a:pt x="590" y="787"/>
                    <a:pt x="870" y="645"/>
                  </a:cubicBezTo>
                  <a:cubicBezTo>
                    <a:pt x="1150" y="503"/>
                    <a:pt x="1430" y="692"/>
                    <a:pt x="1680" y="675"/>
                  </a:cubicBezTo>
                  <a:cubicBezTo>
                    <a:pt x="1930" y="658"/>
                    <a:pt x="2090" y="652"/>
                    <a:pt x="2370" y="540"/>
                  </a:cubicBezTo>
                  <a:cubicBezTo>
                    <a:pt x="2650" y="428"/>
                    <a:pt x="3200" y="90"/>
                    <a:pt x="33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8" name="Line 82"/>
            <p:cNvSpPr/>
            <p:nvPr/>
          </p:nvSpPr>
          <p:spPr>
            <a:xfrm>
              <a:off x="4653000" y="2969280"/>
              <a:ext cx="0" cy="150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9" name="Line 83"/>
            <p:cNvSpPr/>
            <p:nvPr/>
          </p:nvSpPr>
          <p:spPr>
            <a:xfrm>
              <a:off x="5109480" y="2854440"/>
              <a:ext cx="0" cy="16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0" name="Line 84"/>
            <p:cNvSpPr/>
            <p:nvPr/>
          </p:nvSpPr>
          <p:spPr>
            <a:xfrm>
              <a:off x="6491880" y="2423880"/>
              <a:ext cx="0" cy="20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1" name="Line 85"/>
            <p:cNvSpPr/>
            <p:nvPr/>
          </p:nvSpPr>
          <p:spPr>
            <a:xfrm>
              <a:off x="6058800" y="2724840"/>
              <a:ext cx="0" cy="17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2" name="Text Box 86"/>
            <p:cNvSpPr/>
            <p:nvPr/>
          </p:nvSpPr>
          <p:spPr>
            <a:xfrm>
              <a:off x="5203080" y="3212640"/>
              <a:ext cx="85572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  .  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3" name="Text Box 87"/>
            <p:cNvSpPr/>
            <p:nvPr/>
          </p:nvSpPr>
          <p:spPr>
            <a:xfrm>
              <a:off x="4442400" y="4561200"/>
              <a:ext cx="502920" cy="57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4" name="Text Box 88"/>
            <p:cNvSpPr/>
            <p:nvPr/>
          </p:nvSpPr>
          <p:spPr>
            <a:xfrm>
              <a:off x="4945680" y="4561200"/>
              <a:ext cx="504000" cy="57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5" name="Text Box 89"/>
            <p:cNvSpPr/>
            <p:nvPr/>
          </p:nvSpPr>
          <p:spPr>
            <a:xfrm>
              <a:off x="5776560" y="4561200"/>
              <a:ext cx="504000" cy="57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ahoma"/>
                </a:rPr>
                <a:t>n-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6" name="Text Box 90"/>
            <p:cNvSpPr/>
            <p:nvPr/>
          </p:nvSpPr>
          <p:spPr>
            <a:xfrm>
              <a:off x="6280920" y="4561200"/>
              <a:ext cx="502920" cy="57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7" name="Text Box 91"/>
            <p:cNvSpPr/>
            <p:nvPr/>
          </p:nvSpPr>
          <p:spPr>
            <a:xfrm>
              <a:off x="6912720" y="3943800"/>
              <a:ext cx="386640" cy="43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Segment Simpson’s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0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AED1-CE20-4A84-AAC6-0BED175B071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1" name="Rectangle 52"/>
          <p:cNvSpPr/>
          <p:nvPr/>
        </p:nvSpPr>
        <p:spPr>
          <a:xfrm>
            <a:off x="-101520" y="4877280"/>
            <a:ext cx="5394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Apply Simpson’s 1/3rd Rule over each interval,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2" name="Object 53"/>
              <p:cNvSpPr txBox="1"/>
              <p:nvPr/>
            </p:nvSpPr>
            <p:spPr>
              <a:xfrm>
                <a:off x="0" y="5410080"/>
                <a:ext cx="63244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Object 55"/>
              <p:cNvSpPr txBox="1"/>
              <p:nvPr/>
            </p:nvSpPr>
            <p:spPr>
              <a:xfrm>
                <a:off x="304920" y="6553080"/>
                <a:ext cx="48765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Object 92"/>
              <p:cNvSpPr txBox="1"/>
              <p:nvPr/>
            </p:nvSpPr>
            <p:spPr>
              <a:xfrm>
                <a:off x="0" y="1600200"/>
                <a:ext cx="59436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Object 94"/>
              <p:cNvSpPr txBox="1"/>
              <p:nvPr/>
            </p:nvSpPr>
            <p:spPr>
              <a:xfrm>
                <a:off x="304920" y="2743200"/>
                <a:ext cx="380988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06" name="TextBox 25"/>
          <p:cNvSpPr/>
          <p:nvPr/>
        </p:nvSpPr>
        <p:spPr>
          <a:xfrm rot="20012400">
            <a:off x="959400" y="6132600"/>
            <a:ext cx="411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69696"/>
                </a:solidFill>
                <a:latin typeface="Tahoma"/>
              </a:rPr>
              <a:t>Do NOT writ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Segment Simpson’s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9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A106-E9D1-4D76-B724-B464E45D61C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0" name="Object 35"/>
              <p:cNvSpPr txBox="1"/>
              <p:nvPr/>
            </p:nvSpPr>
            <p:spPr>
              <a:xfrm>
                <a:off x="457200" y="1828800"/>
                <a:ext cx="64008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1" name="Object 37"/>
              <p:cNvSpPr txBox="1"/>
              <p:nvPr/>
            </p:nvSpPr>
            <p:spPr>
              <a:xfrm>
                <a:off x="762120" y="2971800"/>
                <a:ext cx="56386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12" name="Rectangle 39"/>
          <p:cNvSpPr/>
          <p:nvPr/>
        </p:nvSpPr>
        <p:spPr>
          <a:xfrm>
            <a:off x="522360" y="4343760"/>
            <a:ext cx="776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nc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Object 41"/>
              <p:cNvSpPr txBox="1"/>
              <p:nvPr/>
            </p:nvSpPr>
            <p:spPr>
              <a:xfrm>
                <a:off x="1600200" y="4876920"/>
                <a:ext cx="2133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4" name="Object 40"/>
              <p:cNvSpPr txBox="1"/>
              <p:nvPr/>
            </p:nvSpPr>
            <p:spPr>
              <a:xfrm>
                <a:off x="4191120" y="4876920"/>
                <a:ext cx="2209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5" name="TextBox 9"/>
          <p:cNvSpPr/>
          <p:nvPr/>
        </p:nvSpPr>
        <p:spPr>
          <a:xfrm rot="20012400">
            <a:off x="1340280" y="2627280"/>
            <a:ext cx="411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69696"/>
                </a:solidFill>
                <a:latin typeface="Tahoma"/>
              </a:rPr>
              <a:t>Do NOT writ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1000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Segment Simpson’s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8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6E61-C654-47BD-B0C9-B923874A7DF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9" name="Rectangle 13"/>
          <p:cNvSpPr/>
          <p:nvPr/>
        </p:nvSpPr>
        <p:spPr>
          <a:xfrm>
            <a:off x="523440" y="1600560"/>
            <a:ext cx="749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0" name="Object 22"/>
              <p:cNvSpPr txBox="1"/>
              <p:nvPr/>
            </p:nvSpPr>
            <p:spPr>
              <a:xfrm>
                <a:off x="380880" y="2133720"/>
                <a:ext cx="59436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1" name="Object 24"/>
              <p:cNvSpPr txBox="1"/>
              <p:nvPr/>
            </p:nvSpPr>
            <p:spPr>
              <a:xfrm>
                <a:off x="838080" y="3352680"/>
                <a:ext cx="52578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2" name="Object 26"/>
              <p:cNvSpPr txBox="1"/>
              <p:nvPr/>
            </p:nvSpPr>
            <p:spPr>
              <a:xfrm>
                <a:off x="914400" y="4648320"/>
                <a:ext cx="52578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3" name="Object 28"/>
              <p:cNvSpPr txBox="1"/>
              <p:nvPr/>
            </p:nvSpPr>
            <p:spPr>
              <a:xfrm>
                <a:off x="1066680" y="5867280"/>
                <a:ext cx="5105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Segment Simpson’s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96A6-CEE9-4FD9-B889-6D202510596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7" name="Object 235"/>
              <p:cNvSpPr txBox="1"/>
              <p:nvPr/>
            </p:nvSpPr>
            <p:spPr>
              <a:xfrm>
                <a:off x="304920" y="1752480"/>
                <a:ext cx="13716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Object 239"/>
              <p:cNvSpPr txBox="1"/>
              <p:nvPr/>
            </p:nvSpPr>
            <p:spPr>
              <a:xfrm>
                <a:off x="1600200" y="1752480"/>
                <a:ext cx="49528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Object 241"/>
              <p:cNvSpPr txBox="1"/>
              <p:nvPr/>
            </p:nvSpPr>
            <p:spPr>
              <a:xfrm>
                <a:off x="1371600" y="2819520"/>
                <a:ext cx="5257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Object 243"/>
              <p:cNvSpPr txBox="1"/>
              <p:nvPr/>
            </p:nvSpPr>
            <p:spPr>
              <a:xfrm>
                <a:off x="609480" y="3505320"/>
                <a:ext cx="57913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ven</m:t>
                    </m:r>
                    <m:limLow>
                      <m:e/>
                      <m:li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Object 245"/>
              <p:cNvSpPr txBox="1"/>
              <p:nvPr/>
            </p:nvSpPr>
            <p:spPr>
              <a:xfrm>
                <a:off x="762120" y="5562720"/>
                <a:ext cx="571500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ven</m:t>
                    </m:r>
                    <m:limLow>
                      <m:e/>
                      <m:li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863640" y="1599840"/>
            <a:ext cx="584496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Integra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6" name="Object 121"/>
              <p:cNvSpPr txBox="1"/>
              <p:nvPr/>
            </p:nvSpPr>
            <p:spPr>
              <a:xfrm>
                <a:off x="0" y="4400640"/>
                <a:ext cx="243828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228600" y="2641680"/>
            <a:ext cx="22860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Footer Placeholder 5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Slide Number Placeholder 6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80AA-4A02-435D-8378-E39D0F4758E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0" name="Rectangle 123"/>
          <p:cNvSpPr/>
          <p:nvPr/>
        </p:nvSpPr>
        <p:spPr>
          <a:xfrm>
            <a:off x="171360" y="3352680"/>
            <a:ext cx="2457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e process of measuring the area under a curve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Text Box 124"/>
          <p:cNvSpPr/>
          <p:nvPr/>
        </p:nvSpPr>
        <p:spPr>
          <a:xfrm>
            <a:off x="228600" y="6197760"/>
            <a:ext cx="257184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ere: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ahoma"/>
              </a:rPr>
              <a:t>f(x)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s the integran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a= lower limit of integrat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b= upper limit of integrat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Line 330"/>
          <p:cNvSpPr/>
          <p:nvPr/>
        </p:nvSpPr>
        <p:spPr>
          <a:xfrm>
            <a:off x="3544920" y="768204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Line 331"/>
          <p:cNvSpPr/>
          <p:nvPr/>
        </p:nvSpPr>
        <p:spPr>
          <a:xfrm>
            <a:off x="5413320" y="768204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4" name="Group 334"/>
          <p:cNvGrpSpPr/>
          <p:nvPr/>
        </p:nvGrpSpPr>
        <p:grpSpPr>
          <a:xfrm>
            <a:off x="2846520" y="5189400"/>
            <a:ext cx="698400" cy="2492640"/>
            <a:chOff x="2846520" y="5189400"/>
            <a:chExt cx="698400" cy="2492640"/>
          </a:xfrm>
        </p:grpSpPr>
        <p:sp>
          <p:nvSpPr>
            <p:cNvPr id="1835" name="Line 335"/>
            <p:cNvSpPr/>
            <p:nvPr/>
          </p:nvSpPr>
          <p:spPr>
            <a:xfrm>
              <a:off x="2846520" y="768132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6" name="Freeform 336"/>
            <p:cNvSpPr/>
            <p:nvPr/>
          </p:nvSpPr>
          <p:spPr>
            <a:xfrm>
              <a:off x="3538080" y="5189400"/>
              <a:ext cx="5760" cy="24926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492640"/>
                <a:gd name="textAreaBottom" fmla="*/ 2493000 h 2492640"/>
              </a:gdLst>
              <a:ahLst/>
              <a:rect l="textAreaLeft" t="textAreaTop" r="textAreaRight" b="textAreaBottom"/>
              <a:pathLst>
                <a:path w="14" h="3271">
                  <a:moveTo>
                    <a:pt x="14" y="3271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7" name="Group 376"/>
          <p:cNvGrpSpPr/>
          <p:nvPr/>
        </p:nvGrpSpPr>
        <p:grpSpPr>
          <a:xfrm>
            <a:off x="2457360" y="3017880"/>
            <a:ext cx="3985200" cy="5211360"/>
            <a:chOff x="2457360" y="3017880"/>
            <a:chExt cx="3985200" cy="5211360"/>
          </a:xfrm>
        </p:grpSpPr>
        <p:sp>
          <p:nvSpPr>
            <p:cNvPr id="1838" name="Line 339"/>
            <p:cNvSpPr/>
            <p:nvPr/>
          </p:nvSpPr>
          <p:spPr>
            <a:xfrm flipV="1">
              <a:off x="2845440" y="3290400"/>
              <a:ext cx="0" cy="439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9" name="Freeform 340"/>
            <p:cNvSpPr/>
            <p:nvPr/>
          </p:nvSpPr>
          <p:spPr>
            <a:xfrm>
              <a:off x="3156120" y="4033800"/>
              <a:ext cx="2543760" cy="3647160"/>
            </a:xfrm>
            <a:custGeom>
              <a:avLst/>
              <a:gdLst>
                <a:gd name="textAreaLeft" fmla="*/ 0 w 2543760"/>
                <a:gd name="textAreaRight" fmla="*/ 2543760 w 2543760"/>
                <a:gd name="textAreaTop" fmla="*/ 0 h 3647160"/>
                <a:gd name="textAreaBottom" fmla="*/ 3647520 h 3647160"/>
              </a:gdLst>
              <a:ahLst/>
              <a:rect l="textAreaLeft" t="textAreaTop" r="textAreaRight" b="textAreaBottom"/>
              <a:pathLst>
                <a:path w="5897" h="4785">
                  <a:moveTo>
                    <a:pt x="0" y="4785"/>
                  </a:moveTo>
                  <a:cubicBezTo>
                    <a:pt x="145" y="4243"/>
                    <a:pt x="247" y="2057"/>
                    <a:pt x="872" y="1530"/>
                  </a:cubicBezTo>
                  <a:cubicBezTo>
                    <a:pt x="1497" y="1003"/>
                    <a:pt x="2915" y="1875"/>
                    <a:pt x="3752" y="1620"/>
                  </a:cubicBezTo>
                  <a:cubicBezTo>
                    <a:pt x="4589" y="1365"/>
                    <a:pt x="5450" y="337"/>
                    <a:pt x="589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0" name="Line 341"/>
            <p:cNvSpPr/>
            <p:nvPr/>
          </p:nvSpPr>
          <p:spPr>
            <a:xfrm>
              <a:off x="5129640" y="3553560"/>
              <a:ext cx="388080" cy="82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1" name="Text Box 342"/>
            <p:cNvSpPr/>
            <p:nvPr/>
          </p:nvSpPr>
          <p:spPr>
            <a:xfrm>
              <a:off x="5181840" y="3200040"/>
              <a:ext cx="8384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f(x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Text Box 343"/>
            <p:cNvSpPr/>
            <p:nvPr/>
          </p:nvSpPr>
          <p:spPr>
            <a:xfrm>
              <a:off x="3467160" y="7818840"/>
              <a:ext cx="23220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3" name="Text Box 344"/>
            <p:cNvSpPr/>
            <p:nvPr/>
          </p:nvSpPr>
          <p:spPr>
            <a:xfrm>
              <a:off x="5330880" y="7818840"/>
              <a:ext cx="23220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4" name="Text Box 346"/>
            <p:cNvSpPr/>
            <p:nvPr/>
          </p:nvSpPr>
          <p:spPr>
            <a:xfrm>
              <a:off x="2457360" y="3290760"/>
              <a:ext cx="2332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5" name="Text Box 347"/>
            <p:cNvSpPr/>
            <p:nvPr/>
          </p:nvSpPr>
          <p:spPr>
            <a:xfrm>
              <a:off x="6188760" y="7818840"/>
              <a:ext cx="25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Rectangle 348"/>
            <p:cNvSpPr/>
            <p:nvPr/>
          </p:nvSpPr>
          <p:spPr>
            <a:xfrm>
              <a:off x="3156120" y="3017880"/>
              <a:ext cx="232200" cy="135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7" name="Line 349"/>
            <p:cNvSpPr/>
            <p:nvPr/>
          </p:nvSpPr>
          <p:spPr>
            <a:xfrm>
              <a:off x="5408280" y="7680960"/>
              <a:ext cx="89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48" name="Group 350"/>
            <p:cNvGrpSpPr/>
            <p:nvPr/>
          </p:nvGrpSpPr>
          <p:grpSpPr>
            <a:xfrm>
              <a:off x="3544560" y="4503960"/>
              <a:ext cx="1880280" cy="3176640"/>
              <a:chOff x="3544560" y="4503960"/>
              <a:chExt cx="1880280" cy="3176640"/>
            </a:xfrm>
          </p:grpSpPr>
          <p:grpSp>
            <p:nvGrpSpPr>
              <p:cNvPr id="1849" name="Group 351"/>
              <p:cNvGrpSpPr/>
              <p:nvPr/>
            </p:nvGrpSpPr>
            <p:grpSpPr>
              <a:xfrm>
                <a:off x="3544560" y="4726080"/>
                <a:ext cx="1880280" cy="2954520"/>
                <a:chOff x="3544560" y="4726080"/>
                <a:chExt cx="1880280" cy="2954520"/>
              </a:xfrm>
            </p:grpSpPr>
            <p:grpSp>
              <p:nvGrpSpPr>
                <p:cNvPr id="1850" name="Group 352"/>
                <p:cNvGrpSpPr/>
                <p:nvPr/>
              </p:nvGrpSpPr>
              <p:grpSpPr>
                <a:xfrm>
                  <a:off x="3544560" y="4726080"/>
                  <a:ext cx="1880280" cy="2954520"/>
                  <a:chOff x="3544560" y="4726080"/>
                  <a:chExt cx="1880280" cy="2954520"/>
                </a:xfrm>
              </p:grpSpPr>
              <p:grpSp>
                <p:nvGrpSpPr>
                  <p:cNvPr id="1851" name="Group 353"/>
                  <p:cNvGrpSpPr/>
                  <p:nvPr/>
                </p:nvGrpSpPr>
                <p:grpSpPr>
                  <a:xfrm>
                    <a:off x="3544560" y="4726080"/>
                    <a:ext cx="1880280" cy="2954520"/>
                    <a:chOff x="3544560" y="4726080"/>
                    <a:chExt cx="1880280" cy="2954520"/>
                  </a:xfrm>
                </p:grpSpPr>
                <p:grpSp>
                  <p:nvGrpSpPr>
                    <p:cNvPr id="1852" name="Group 354"/>
                    <p:cNvGrpSpPr/>
                    <p:nvPr/>
                  </p:nvGrpSpPr>
                  <p:grpSpPr>
                    <a:xfrm>
                      <a:off x="3544560" y="4726080"/>
                      <a:ext cx="1880280" cy="2954520"/>
                      <a:chOff x="3544560" y="4726080"/>
                      <a:chExt cx="1880280" cy="2954520"/>
                    </a:xfrm>
                  </p:grpSpPr>
                  <p:grpSp>
                    <p:nvGrpSpPr>
                      <p:cNvPr id="1853" name="Group 355"/>
                      <p:cNvGrpSpPr/>
                      <p:nvPr/>
                    </p:nvGrpSpPr>
                    <p:grpSpPr>
                      <a:xfrm>
                        <a:off x="3544560" y="4743720"/>
                        <a:ext cx="1870200" cy="2936880"/>
                        <a:chOff x="3544560" y="4743720"/>
                        <a:chExt cx="1870200" cy="2936880"/>
                      </a:xfrm>
                    </p:grpSpPr>
                    <p:grpSp>
                      <p:nvGrpSpPr>
                        <p:cNvPr id="1854" name="Group 356"/>
                        <p:cNvGrpSpPr/>
                        <p:nvPr/>
                      </p:nvGrpSpPr>
                      <p:grpSpPr>
                        <a:xfrm>
                          <a:off x="3544560" y="4743720"/>
                          <a:ext cx="1870200" cy="2936880"/>
                          <a:chOff x="3544560" y="4743720"/>
                          <a:chExt cx="1870200" cy="2936880"/>
                        </a:xfrm>
                      </p:grpSpPr>
                      <p:sp>
                        <p:nvSpPr>
                          <p:cNvPr id="1855" name="Rectangle 357"/>
                          <p:cNvSpPr/>
                          <p:nvPr/>
                        </p:nvSpPr>
                        <p:spPr>
                          <a:xfrm>
                            <a:off x="3544560" y="5189400"/>
                            <a:ext cx="660240" cy="249120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856" name="Rectangle 358"/>
                          <p:cNvSpPr/>
                          <p:nvPr/>
                        </p:nvSpPr>
                        <p:spPr>
                          <a:xfrm>
                            <a:off x="4612680" y="5315040"/>
                            <a:ext cx="801720" cy="236520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857" name="Rectangle 359"/>
                          <p:cNvSpPr/>
                          <p:nvPr/>
                        </p:nvSpPr>
                        <p:spPr>
                          <a:xfrm>
                            <a:off x="4204800" y="5315040"/>
                            <a:ext cx="407520" cy="236520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858" name="Rectangle 360"/>
                          <p:cNvSpPr/>
                          <p:nvPr/>
                        </p:nvSpPr>
                        <p:spPr>
                          <a:xfrm>
                            <a:off x="5263560" y="4743720"/>
                            <a:ext cx="151200" cy="5713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859" name="Rectangle 361"/>
                          <p:cNvSpPr/>
                          <p:nvPr/>
                        </p:nvSpPr>
                        <p:spPr>
                          <a:xfrm>
                            <a:off x="5072400" y="5006520"/>
                            <a:ext cx="191160" cy="3085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1860" name="AutoShape 362"/>
                        <p:cNvSpPr/>
                        <p:nvPr/>
                      </p:nvSpPr>
                      <p:spPr>
                        <a:xfrm>
                          <a:off x="4204800" y="5189400"/>
                          <a:ext cx="342720" cy="125640"/>
                        </a:xfrm>
                        <a:prstGeom prst="rtTriangl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sp>
                    <p:nvSpPr>
                      <p:cNvPr id="1861" name="AutoShape 363"/>
                      <p:cNvSpPr/>
                      <p:nvPr/>
                    </p:nvSpPr>
                    <p:spPr>
                      <a:xfrm rot="8491800">
                        <a:off x="4879080" y="4888800"/>
                        <a:ext cx="567720" cy="126360"/>
                      </a:xfrm>
                      <a:prstGeom prst="rtTriangl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862" name="AutoShape 364"/>
                    <p:cNvSpPr/>
                    <p:nvPr/>
                  </p:nvSpPr>
                  <p:spPr>
                    <a:xfrm rot="9192600">
                      <a:off x="4678200" y="5190480"/>
                      <a:ext cx="448920" cy="336600"/>
                    </a:xfrm>
                    <a:prstGeom prst="rtTriangl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863" name="AutoShape 365"/>
                  <p:cNvSpPr/>
                  <p:nvPr/>
                </p:nvSpPr>
                <p:spPr>
                  <a:xfrm rot="10263600">
                    <a:off x="3853800" y="5390280"/>
                    <a:ext cx="1024920" cy="108720"/>
                  </a:xfrm>
                  <a:prstGeom prst="rtTriangl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864" name="AutoShape 366"/>
                <p:cNvSpPr/>
                <p:nvPr/>
              </p:nvSpPr>
              <p:spPr>
                <a:xfrm rot="9040200">
                  <a:off x="5091840" y="4905360"/>
                  <a:ext cx="206640" cy="2998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65" name="AutoShape 367"/>
              <p:cNvSpPr/>
              <p:nvPr/>
            </p:nvSpPr>
            <p:spPr>
              <a:xfrm flipH="1">
                <a:off x="5213520" y="4503960"/>
                <a:ext cx="200520" cy="31968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66" name="Group 368"/>
          <p:cNvGrpSpPr/>
          <p:nvPr/>
        </p:nvGrpSpPr>
        <p:grpSpPr>
          <a:xfrm>
            <a:off x="3536280" y="5086440"/>
            <a:ext cx="668520" cy="412560"/>
            <a:chOff x="3536280" y="5086440"/>
            <a:chExt cx="668520" cy="412560"/>
          </a:xfrm>
        </p:grpSpPr>
        <p:sp>
          <p:nvSpPr>
            <p:cNvPr id="1867" name="Rectangle 369"/>
            <p:cNvSpPr/>
            <p:nvPr/>
          </p:nvSpPr>
          <p:spPr>
            <a:xfrm>
              <a:off x="3699720" y="5086440"/>
              <a:ext cx="213480" cy="41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8" name="AutoShape 370"/>
            <p:cNvSpPr/>
            <p:nvPr/>
          </p:nvSpPr>
          <p:spPr>
            <a:xfrm>
              <a:off x="3913200" y="5086440"/>
              <a:ext cx="291600" cy="11916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9" name="AutoShape 371"/>
            <p:cNvSpPr/>
            <p:nvPr/>
          </p:nvSpPr>
          <p:spPr>
            <a:xfrm rot="9682200">
              <a:off x="3560760" y="5127120"/>
              <a:ext cx="198720" cy="18720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0" name="Line 372"/>
            <p:cNvSpPr/>
            <p:nvPr/>
          </p:nvSpPr>
          <p:spPr>
            <a:xfrm flipV="1">
              <a:off x="3560760" y="5087160"/>
              <a:ext cx="138960" cy="10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1" name="Freeform 373"/>
          <p:cNvSpPr/>
          <p:nvPr/>
        </p:nvSpPr>
        <p:spPr>
          <a:xfrm>
            <a:off x="3543480" y="5100480"/>
            <a:ext cx="120600" cy="106560"/>
          </a:xfrm>
          <a:custGeom>
            <a:avLst/>
            <a:gdLst>
              <a:gd name="textAreaLeft" fmla="*/ 0 w 120600"/>
              <a:gd name="textAreaRight" fmla="*/ 120960 w 12060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279" h="137">
                <a:moveTo>
                  <a:pt x="0" y="137"/>
                </a:moveTo>
                <a:cubicBezTo>
                  <a:pt x="34" y="107"/>
                  <a:pt x="68" y="77"/>
                  <a:pt x="114" y="54"/>
                </a:cubicBezTo>
                <a:cubicBezTo>
                  <a:pt x="160" y="31"/>
                  <a:pt x="249" y="0"/>
                  <a:pt x="27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2" name="Object 374"/>
              <p:cNvSpPr txBox="1"/>
              <p:nvPr/>
            </p:nvSpPr>
            <p:spPr>
              <a:xfrm>
                <a:off x="3657600" y="2057400"/>
                <a:ext cx="184788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73" name="Rectangle 2"/>
          <p:cNvSpPr/>
          <p:nvPr/>
        </p:nvSpPr>
        <p:spPr>
          <a:xfrm>
            <a:off x="457200" y="457200"/>
            <a:ext cx="58453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Rectangle 7"/>
          <p:cNvSpPr/>
          <p:nvPr/>
        </p:nvSpPr>
        <p:spPr>
          <a:xfrm>
            <a:off x="0" y="5029200"/>
            <a:ext cx="61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our segment Simpson’s 1/3rd Rule to find the approximate value 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20200" y="-360"/>
            <a:ext cx="584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4-segment Simpson’s 1/3rd Rule to approximate the distance covered by a rocket from t= 8 to t=30 as given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Footer Placeholder 6"/>
          <p:cNvSpPr/>
          <p:nvPr/>
        </p:nvSpPr>
        <p:spPr>
          <a:xfrm>
            <a:off x="2000160" y="7651800"/>
            <a:ext cx="2171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4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Slide Number Placeholder 7"/>
          <p:cNvSpPr/>
          <p:nvPr/>
        </p:nvSpPr>
        <p:spPr>
          <a:xfrm>
            <a:off x="4572000" y="765180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0546-80A8-4745-8280-ADF5CF86BD06}" type="slidenum">
              <a:rPr b="0" lang="en-US" sz="14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7" name="Object 5"/>
              <p:cNvSpPr txBox="1"/>
              <p:nvPr/>
            </p:nvSpPr>
            <p:spPr>
              <a:xfrm>
                <a:off x="228600" y="2743200"/>
                <a:ext cx="662940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0000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000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00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7F42-9C6E-4EE3-B50D-16407741A9B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4"/>
          <p:cNvSpPr/>
          <p:nvPr/>
        </p:nvSpPr>
        <p:spPr>
          <a:xfrm>
            <a:off x="1200960" y="1371960"/>
            <a:ext cx="4600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Using n segment Simpson’s 1/3rd Rule,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2" name="Group 9"/>
          <p:cNvGrpSpPr/>
          <p:nvPr/>
        </p:nvGrpSpPr>
        <p:grpSpPr>
          <a:xfrm>
            <a:off x="914400" y="1981080"/>
            <a:ext cx="3200040" cy="964800"/>
            <a:chOff x="914400" y="1981080"/>
            <a:chExt cx="3200040" cy="964800"/>
          </a:xfrm>
        </p:grpSpPr>
        <mc:AlternateContent>
          <mc:Choice xmlns:a14="http://schemas.microsoft.com/office/drawing/2010/main" Requires="a14">
            <p:sp>
              <p:nvSpPr>
                <p:cNvPr id="2043" name="Object 6"/>
                <p:cNvSpPr txBox="1"/>
                <p:nvPr/>
              </p:nvSpPr>
              <p:spPr>
                <a:xfrm>
                  <a:off x="914400" y="1981080"/>
                  <a:ext cx="1946880" cy="96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4" name="Object 5"/>
                <p:cNvSpPr txBox="1"/>
                <p:nvPr/>
              </p:nvSpPr>
              <p:spPr>
                <a:xfrm>
                  <a:off x="3087720" y="2285640"/>
                  <a:ext cx="10267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45" name="Object 19"/>
              <p:cNvSpPr txBox="1"/>
              <p:nvPr/>
            </p:nvSpPr>
            <p:spPr>
              <a:xfrm>
                <a:off x="1066680" y="3124080"/>
                <a:ext cx="2514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6" name="Object 18"/>
              <p:cNvSpPr txBox="1"/>
              <p:nvPr/>
            </p:nvSpPr>
            <p:spPr>
              <a:xfrm>
                <a:off x="1066680" y="3733920"/>
                <a:ext cx="2743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7" name="Object 17"/>
              <p:cNvSpPr txBox="1"/>
              <p:nvPr/>
            </p:nvSpPr>
            <p:spPr>
              <a:xfrm>
                <a:off x="3886200" y="3809880"/>
                <a:ext cx="1828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8" name="Object 16"/>
              <p:cNvSpPr txBox="1"/>
              <p:nvPr/>
            </p:nvSpPr>
            <p:spPr>
              <a:xfrm>
                <a:off x="990720" y="4572000"/>
                <a:ext cx="30477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Object 15"/>
              <p:cNvSpPr txBox="1"/>
              <p:nvPr/>
            </p:nvSpPr>
            <p:spPr>
              <a:xfrm>
                <a:off x="4267080" y="4648320"/>
                <a:ext cx="1524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Object 14"/>
              <p:cNvSpPr txBox="1"/>
              <p:nvPr/>
            </p:nvSpPr>
            <p:spPr>
              <a:xfrm>
                <a:off x="1066680" y="5105520"/>
                <a:ext cx="2971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Object 13"/>
              <p:cNvSpPr txBox="1"/>
              <p:nvPr/>
            </p:nvSpPr>
            <p:spPr>
              <a:xfrm>
                <a:off x="4191120" y="5105520"/>
                <a:ext cx="1752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Object 12"/>
              <p:cNvSpPr txBox="1"/>
              <p:nvPr/>
            </p:nvSpPr>
            <p:spPr>
              <a:xfrm>
                <a:off x="1219320" y="5638680"/>
                <a:ext cx="11430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Object 11"/>
              <p:cNvSpPr txBox="1"/>
              <p:nvPr/>
            </p:nvSpPr>
            <p:spPr>
              <a:xfrm>
                <a:off x="2286000" y="5715000"/>
                <a:ext cx="1981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22A8-3275-4E1B-8B79-C8C96A972C3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7" name="Object 9"/>
              <p:cNvSpPr txBox="1"/>
              <p:nvPr/>
            </p:nvSpPr>
            <p:spPr>
              <a:xfrm>
                <a:off x="399960" y="2540160"/>
                <a:ext cx="57722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ven</m:t>
                    </m:r>
                    <m:limLow>
                      <m:e/>
                      <m:li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Object 8"/>
              <p:cNvSpPr txBox="1"/>
              <p:nvPr/>
            </p:nvSpPr>
            <p:spPr>
              <a:xfrm>
                <a:off x="514440" y="4368960"/>
                <a:ext cx="588636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ven</m:t>
                    </m:r>
                    <m:limLow>
                      <m:e/>
                      <m:lim>
                        <m:r>
                          <m:t xml:space="preserve">2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Object 7"/>
              <p:cNvSpPr txBox="1"/>
              <p:nvPr/>
            </p:nvSpPr>
            <p:spPr>
              <a:xfrm>
                <a:off x="514440" y="6730920"/>
                <a:ext cx="5734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2060" name="Straight Arrow Connector 8"/>
          <p:cNvCxnSpPr/>
          <p:nvPr/>
        </p:nvCxnSpPr>
        <p:spPr>
          <a:xfrm flipH="1">
            <a:off x="2666160" y="5638320"/>
            <a:ext cx="305640" cy="1220040"/>
          </a:xfrm>
          <a:prstGeom prst="straightConnector1">
            <a:avLst/>
          </a:prstGeom>
          <a:ln w="38160">
            <a:solidFill>
              <a:srgbClr val="008000"/>
            </a:solidFill>
            <a:prstDash val="lgDash"/>
            <a:miter/>
            <a:tailEnd len="med" type="triangle" w="med"/>
          </a:ln>
        </p:spPr>
      </p:cxnSp>
      <p:cxnSp>
        <p:nvCxnSpPr>
          <p:cNvPr id="2061" name="Straight Arrow Connector 9"/>
          <p:cNvCxnSpPr/>
          <p:nvPr/>
        </p:nvCxnSpPr>
        <p:spPr>
          <a:xfrm>
            <a:off x="4570920" y="5562360"/>
            <a:ext cx="229320" cy="1448280"/>
          </a:xfrm>
          <a:prstGeom prst="straightConnector1">
            <a:avLst/>
          </a:prstGeom>
          <a:ln w="38160">
            <a:solidFill>
              <a:srgbClr val="008000"/>
            </a:solidFill>
            <a:prstDash val="lgDash"/>
            <a:miter/>
            <a:tailEnd len="med" type="triangle" w="med"/>
          </a:ln>
        </p:spPr>
      </p:cxnSp>
      <p:cxnSp>
        <p:nvCxnSpPr>
          <p:cNvPr id="2062" name="Straight Arrow Connector 13"/>
          <p:cNvCxnSpPr/>
          <p:nvPr/>
        </p:nvCxnSpPr>
        <p:spPr>
          <a:xfrm>
            <a:off x="2970720" y="5715000"/>
            <a:ext cx="610200" cy="1372320"/>
          </a:xfrm>
          <a:prstGeom prst="straightConnector1">
            <a:avLst/>
          </a:prstGeom>
          <a:ln w="38160">
            <a:solidFill>
              <a:srgbClr val="008000"/>
            </a:solidFill>
            <a:prstDash val="lg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A546-03C7-404A-8FBA-962E226C26C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6" name="Object 6"/>
              <p:cNvSpPr txBox="1"/>
              <p:nvPr/>
            </p:nvSpPr>
            <p:spPr>
              <a:xfrm>
                <a:off x="228600" y="1447920"/>
                <a:ext cx="66294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Object 5"/>
              <p:cNvSpPr txBox="1"/>
              <p:nvPr/>
            </p:nvSpPr>
            <p:spPr>
              <a:xfrm>
                <a:off x="0" y="2514600"/>
                <a:ext cx="64771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67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69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01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Object 4"/>
              <p:cNvSpPr txBox="1"/>
              <p:nvPr/>
            </p:nvSpPr>
            <p:spPr>
              <a:xfrm>
                <a:off x="533520" y="4267080"/>
                <a:ext cx="42177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A5C3-5E37-4AA4-928C-2CA611B81F2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4"/>
          <p:cNvSpPr/>
          <p:nvPr/>
        </p:nvSpPr>
        <p:spPr>
          <a:xfrm>
            <a:off x="318600" y="1395000"/>
            <a:ext cx="6089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able 1: Values of Simpson’s 1/3rd Rule for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Example 2 with multiple segment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3" name=""/>
          <p:cNvGraphicFramePr/>
          <p:nvPr/>
        </p:nvGraphicFramePr>
        <p:xfrm>
          <a:off x="914400" y="2438280"/>
          <a:ext cx="4572000" cy="5029200"/>
        </p:xfrm>
        <a:graphic>
          <a:graphicData uri="http://schemas.openxmlformats.org/drawingml/2006/table">
            <a:tbl>
              <a:tblPr/>
              <a:tblGrid>
                <a:gridCol w="1149480"/>
                <a:gridCol w="3422520"/>
              </a:tblGrid>
              <a:tr h="1336680">
                <a:tc>
                  <a:txBody>
                    <a:bodyPr lIns="68760" rIns="68760" tIns="60840" bIns="6084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roximate Valu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c00000"/>
                          </a:solidFill>
                          <a:latin typeface="Tahoma"/>
                          <a:ea typeface="Times New Roman"/>
                        </a:rPr>
                        <a:t>Actual value =11061.3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2520">
                <a:tc>
                  <a:txBody>
                    <a:bodyPr lIns="68760" rIns="68760" tIns="60840" bIns="60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065.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061.6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061.4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061.3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061.3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ror in the Multiple Segment Simpson’s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523D-10A6-4E9A-8BA0-160F15C4757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Rectangle 4"/>
          <p:cNvSpPr/>
          <p:nvPr/>
        </p:nvSpPr>
        <p:spPr>
          <a:xfrm>
            <a:off x="-113400" y="1836720"/>
            <a:ext cx="51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rror in a single application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son’s 1/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ule is given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Object 5"/>
              <p:cNvSpPr txBox="1"/>
              <p:nvPr/>
            </p:nvSpPr>
            <p:spPr>
              <a:xfrm>
                <a:off x="762120" y="2895480"/>
                <a:ext cx="54100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8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ζ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ζ</m:t>
                    </m:r>
                    <m:r>
                      <m:t xml:space="preserve">&lt;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9" name="Rectangle 7"/>
          <p:cNvSpPr/>
          <p:nvPr/>
        </p:nvSpPr>
        <p:spPr>
          <a:xfrm>
            <a:off x="-143280" y="4116960"/>
            <a:ext cx="624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ultiple Segment Simpson’s 1/3rd Rul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rror is the sum of the errors in ea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0" name="Text Box 8"/>
          <p:cNvSpPr/>
          <p:nvPr/>
        </p:nvSpPr>
        <p:spPr>
          <a:xfrm>
            <a:off x="0" y="4876920"/>
            <a:ext cx="65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impson’s 1/3rd Rule.  The error in n segment Simpson’s 1/3rd Rule is given b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1" name="Object 13"/>
              <p:cNvSpPr txBox="1"/>
              <p:nvPr/>
            </p:nvSpPr>
            <p:spPr>
              <a:xfrm>
                <a:off x="228600" y="5791320"/>
                <a:ext cx="32004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8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Object 12"/>
              <p:cNvSpPr txBox="1"/>
              <p:nvPr/>
            </p:nvSpPr>
            <p:spPr>
              <a:xfrm>
                <a:off x="3429000" y="5791320"/>
                <a:ext cx="24382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Object 11"/>
              <p:cNvSpPr txBox="1"/>
              <p:nvPr/>
            </p:nvSpPr>
            <p:spPr>
              <a:xfrm>
                <a:off x="380880" y="7238880"/>
                <a:ext cx="33530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8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Object 10"/>
              <p:cNvSpPr txBox="1"/>
              <p:nvPr/>
            </p:nvSpPr>
            <p:spPr>
              <a:xfrm>
                <a:off x="3886200" y="7238880"/>
                <a:ext cx="236232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Object 18"/>
              <p:cNvSpPr txBox="1"/>
              <p:nvPr/>
            </p:nvSpPr>
            <p:spPr>
              <a:xfrm>
                <a:off x="4419720" y="6705720"/>
                <a:ext cx="1981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Object 20"/>
              <p:cNvSpPr txBox="1"/>
              <p:nvPr/>
            </p:nvSpPr>
            <p:spPr>
              <a:xfrm>
                <a:off x="4724280" y="8305920"/>
                <a:ext cx="1752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ror in the Multiple Segment Simpson’s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771B-3202-4937-996E-234ED62F388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0" name="Object 5"/>
              <p:cNvSpPr txBox="1"/>
              <p:nvPr/>
            </p:nvSpPr>
            <p:spPr>
              <a:xfrm>
                <a:off x="304920" y="1981080"/>
                <a:ext cx="35049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8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Object 4"/>
              <p:cNvSpPr txBox="1"/>
              <p:nvPr/>
            </p:nvSpPr>
            <p:spPr>
              <a:xfrm>
                <a:off x="3886200" y="1981080"/>
                <a:ext cx="22096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Object 11"/>
              <p:cNvSpPr txBox="1"/>
              <p:nvPr/>
            </p:nvSpPr>
            <p:spPr>
              <a:xfrm>
                <a:off x="0" y="4038480"/>
                <a:ext cx="3276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8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Object 10"/>
              <p:cNvSpPr txBox="1"/>
              <p:nvPr/>
            </p:nvSpPr>
            <p:spPr>
              <a:xfrm>
                <a:off x="3505320" y="4038480"/>
                <a:ext cx="23619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Object 9"/>
              <p:cNvSpPr txBox="1"/>
              <p:nvPr/>
            </p:nvSpPr>
            <p:spPr>
              <a:xfrm>
                <a:off x="4724280" y="7086600"/>
                <a:ext cx="14670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Object 8"/>
              <p:cNvSpPr txBox="1"/>
              <p:nvPr/>
            </p:nvSpPr>
            <p:spPr>
              <a:xfrm>
                <a:off x="3429000" y="5791320"/>
                <a:ext cx="20574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96" name="Text Box 17"/>
          <p:cNvSpPr/>
          <p:nvPr/>
        </p:nvSpPr>
        <p:spPr>
          <a:xfrm>
            <a:off x="3200400" y="3124080"/>
            <a:ext cx="343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7" name="Object 18"/>
              <p:cNvSpPr txBox="1"/>
              <p:nvPr/>
            </p:nvSpPr>
            <p:spPr>
              <a:xfrm>
                <a:off x="4572000" y="3149640"/>
                <a:ext cx="1943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8" name="Object 20"/>
              <p:cNvSpPr txBox="1"/>
              <p:nvPr/>
            </p:nvSpPr>
            <p:spPr>
              <a:xfrm>
                <a:off x="4876920" y="5181480"/>
                <a:ext cx="1736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9" name="Object 22"/>
              <p:cNvSpPr txBox="1"/>
              <p:nvPr/>
            </p:nvSpPr>
            <p:spPr>
              <a:xfrm>
                <a:off x="0" y="5715000"/>
                <a:ext cx="32767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8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ror in the Multiple Segment Simpson’s 1/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3ED5-FC47-4B24-B9EB-ED89BA8D69C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Rectangle 4"/>
          <p:cNvSpPr/>
          <p:nvPr/>
        </p:nvSpPr>
        <p:spPr>
          <a:xfrm>
            <a:off x="-156960" y="1989000"/>
            <a:ext cx="630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, the total error in Multiple Seg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son’s 1/3rd Rule 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4" name="Object 8"/>
              <p:cNvSpPr txBox="1"/>
              <p:nvPr/>
            </p:nvSpPr>
            <p:spPr>
              <a:xfrm>
                <a:off x="0" y="3200400"/>
                <a:ext cx="1752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5" name="Object 7"/>
              <p:cNvSpPr txBox="1"/>
              <p:nvPr/>
            </p:nvSpPr>
            <p:spPr>
              <a:xfrm>
                <a:off x="1752480" y="3352680"/>
                <a:ext cx="32767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6" name="Object 6"/>
              <p:cNvSpPr txBox="1"/>
              <p:nvPr/>
            </p:nvSpPr>
            <p:spPr>
              <a:xfrm>
                <a:off x="1981080" y="4800600"/>
                <a:ext cx="32767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Object 5"/>
              <p:cNvSpPr txBox="1"/>
              <p:nvPr/>
            </p:nvSpPr>
            <p:spPr>
              <a:xfrm>
                <a:off x="1714680" y="6095880"/>
                <a:ext cx="4228920" cy="179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ror in the Multiple Segment Simpson’s 1/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FBA5-420F-4EE0-8118-77B28834E76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4"/>
          <p:cNvSpPr/>
          <p:nvPr/>
        </p:nvSpPr>
        <p:spPr>
          <a:xfrm>
            <a:off x="284760" y="20959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er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2" name="Object 5"/>
              <p:cNvSpPr txBox="1"/>
              <p:nvPr/>
            </p:nvSpPr>
            <p:spPr>
              <a:xfrm>
                <a:off x="1981080" y="1752480"/>
                <a:ext cx="213372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3" name="Rectangle 7"/>
          <p:cNvSpPr/>
          <p:nvPr/>
        </p:nvSpPr>
        <p:spPr>
          <a:xfrm>
            <a:off x="103320" y="36961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n approximate average value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4" name="Object 8"/>
              <p:cNvSpPr txBox="1"/>
              <p:nvPr/>
            </p:nvSpPr>
            <p:spPr>
              <a:xfrm>
                <a:off x="2228760" y="4572000"/>
                <a:ext cx="264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Object 11"/>
              <p:cNvSpPr txBox="1"/>
              <p:nvPr/>
            </p:nvSpPr>
            <p:spPr>
              <a:xfrm>
                <a:off x="1981080" y="5410080"/>
                <a:ext cx="2951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6" name="Rectangle 13"/>
          <p:cNvSpPr/>
          <p:nvPr/>
        </p:nvSpPr>
        <p:spPr>
          <a:xfrm>
            <a:off x="711720" y="744084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7" name="Object 14"/>
              <p:cNvSpPr txBox="1"/>
              <p:nvPr/>
            </p:nvSpPr>
            <p:spPr>
              <a:xfrm>
                <a:off x="2209680" y="6629400"/>
                <a:ext cx="358164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tional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ll resources on this topic such as digital audiovisual lectures, primers, textbook chapters, multiple-choice tests, worksheets in MATLAB, MATHEMATICA, MathCad and MAPLE, blogs, related physical problems, please vis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umericalmethods.eng.usf.edu/topics/simpsons_13rd_rule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3711-2F4D-4373-ADF0-7948A40B4D6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Rectangle 4"/>
          <p:cNvSpPr/>
          <p:nvPr/>
        </p:nvSpPr>
        <p:spPr>
          <a:xfrm>
            <a:off x="571680" y="3454560"/>
            <a:ext cx="582912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Simpson’s 1/3</a:t>
            </a:r>
            <a:r>
              <a:rPr b="0" lang="en-US" sz="4400" spc="-1" strike="noStrike" baseline="30000">
                <a:solidFill>
                  <a:srgbClr val="1f497d"/>
                </a:solidFill>
                <a:latin typeface="Tahoma"/>
              </a:rPr>
              <a:t>rd</a:t>
            </a: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 Ru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"/>
          <p:cNvSpPr txBox="1"/>
          <p:nvPr/>
        </p:nvSpPr>
        <p:spPr>
          <a:xfrm>
            <a:off x="342720" y="4266720"/>
            <a:ext cx="617220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numericalmethods.eng.usf.ed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84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s of Simpson’s 1/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pezoidal rule was based on approximating the integrand by a first order polynomial, and then integrating the polynomial in the interval of integratio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Footer Placeholder 6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0" name="Slide Number Placeholder 7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D0D5-0896-408B-AA44-8C4B5FA1F01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20"/>
          <p:cNvSpPr/>
          <p:nvPr/>
        </p:nvSpPr>
        <p:spPr>
          <a:xfrm>
            <a:off x="722520" y="4939200"/>
            <a:ext cx="895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enc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2" name="Object 21"/>
              <p:cNvSpPr txBox="1"/>
              <p:nvPr/>
            </p:nvSpPr>
            <p:spPr>
              <a:xfrm>
                <a:off x="1943280" y="5283360"/>
                <a:ext cx="4000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883" name="Group 30"/>
          <p:cNvGrpSpPr/>
          <p:nvPr/>
        </p:nvGrpSpPr>
        <p:grpSpPr>
          <a:xfrm>
            <a:off x="1066680" y="6629400"/>
            <a:ext cx="4172040" cy="749160"/>
            <a:chOff x="1066680" y="6629400"/>
            <a:chExt cx="4172040" cy="749160"/>
          </a:xfrm>
        </p:grpSpPr>
        <p:sp>
          <p:nvSpPr>
            <p:cNvPr id="1884" name="Text Box 23"/>
            <p:cNvSpPr/>
            <p:nvPr/>
          </p:nvSpPr>
          <p:spPr>
            <a:xfrm>
              <a:off x="1066680" y="6705720"/>
              <a:ext cx="41720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Where                 is a second order polynomial.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5" name="Object 26"/>
                <p:cNvSpPr txBox="1"/>
                <p:nvPr/>
              </p:nvSpPr>
              <p:spPr>
                <a:xfrm>
                  <a:off x="2057040" y="6629400"/>
                  <a:ext cx="8380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86" name="Object 28"/>
              <p:cNvSpPr txBox="1"/>
              <p:nvPr/>
            </p:nvSpPr>
            <p:spPr>
              <a:xfrm>
                <a:off x="2057400" y="7721640"/>
                <a:ext cx="2895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7" name="Rectangle 11"/>
          <p:cNvSpPr/>
          <p:nvPr/>
        </p:nvSpPr>
        <p:spPr>
          <a:xfrm>
            <a:off x="228600" y="37339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son’s 1/3rd rule is an extension of Trapezoidal rule where the integrand is approximated by a second order polynomial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584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s of Simpson’s 1/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Footer Placeholder 6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Slide Number Placeholder 7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B213-A884-4FDF-A951-4C2BAAC6D74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1" name="Object 37"/>
              <p:cNvSpPr txBox="1"/>
              <p:nvPr/>
            </p:nvSpPr>
            <p:spPr>
              <a:xfrm>
                <a:off x="838080" y="2514600"/>
                <a:ext cx="1219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Object 36"/>
              <p:cNvSpPr txBox="1"/>
              <p:nvPr/>
            </p:nvSpPr>
            <p:spPr>
              <a:xfrm>
                <a:off x="2209680" y="2362320"/>
                <a:ext cx="20574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Object 35"/>
              <p:cNvSpPr txBox="1"/>
              <p:nvPr/>
            </p:nvSpPr>
            <p:spPr>
              <a:xfrm>
                <a:off x="4419720" y="2438280"/>
                <a:ext cx="1676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4" name="Rectangle 43"/>
          <p:cNvSpPr/>
          <p:nvPr/>
        </p:nvSpPr>
        <p:spPr>
          <a:xfrm>
            <a:off x="380880" y="1501200"/>
            <a:ext cx="6248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hree points of the function to evaluat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5" name="Object 46"/>
              <p:cNvSpPr txBox="1"/>
              <p:nvPr/>
            </p:nvSpPr>
            <p:spPr>
              <a:xfrm>
                <a:off x="914400" y="4800600"/>
                <a:ext cx="4191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Object 45"/>
              <p:cNvSpPr txBox="1"/>
              <p:nvPr/>
            </p:nvSpPr>
            <p:spPr>
              <a:xfrm>
                <a:off x="380880" y="5562720"/>
                <a:ext cx="586764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7" name="Object 44"/>
              <p:cNvSpPr txBox="1"/>
              <p:nvPr/>
            </p:nvSpPr>
            <p:spPr>
              <a:xfrm>
                <a:off x="838080" y="6858000"/>
                <a:ext cx="39625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98" name="Rectangle 13"/>
          <p:cNvSpPr/>
          <p:nvPr/>
        </p:nvSpPr>
        <p:spPr>
          <a:xfrm>
            <a:off x="581760" y="3505320"/>
            <a:ext cx="1355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Rectangle 14"/>
          <p:cNvSpPr/>
          <p:nvPr/>
        </p:nvSpPr>
        <p:spPr>
          <a:xfrm>
            <a:off x="4077720" y="3429000"/>
            <a:ext cx="1563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Rectangle 15"/>
          <p:cNvSpPr/>
          <p:nvPr/>
        </p:nvSpPr>
        <p:spPr>
          <a:xfrm>
            <a:off x="2314080" y="3505320"/>
            <a:ext cx="1162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01" name="Straight Arrow Connector 17"/>
          <p:cNvCxnSpPr/>
          <p:nvPr/>
        </p:nvCxnSpPr>
        <p:spPr>
          <a:xfrm flipH="1">
            <a:off x="1294560" y="3047760"/>
            <a:ext cx="2520" cy="2057760"/>
          </a:xfrm>
          <a:prstGeom prst="straightConnector1">
            <a:avLst/>
          </a:prstGeom>
          <a:ln w="38160">
            <a:solidFill>
              <a:srgbClr val="ff0000"/>
            </a:solidFill>
            <a:prstDash val="lgDashDot"/>
            <a:miter/>
            <a:tailEnd len="med" type="triangle" w="med"/>
          </a:ln>
        </p:spPr>
      </p:cxnSp>
      <p:cxnSp>
        <p:nvCxnSpPr>
          <p:cNvPr id="1902" name="Straight Arrow Connector 19"/>
          <p:cNvCxnSpPr/>
          <p:nvPr/>
        </p:nvCxnSpPr>
        <p:spPr>
          <a:xfrm flipH="1">
            <a:off x="4952160" y="2971440"/>
            <a:ext cx="2520" cy="4267800"/>
          </a:xfrm>
          <a:prstGeom prst="straightConnector1">
            <a:avLst/>
          </a:prstGeom>
          <a:ln w="38160">
            <a:solidFill>
              <a:srgbClr val="ff0000"/>
            </a:solidFill>
            <a:prstDash val="lgDashDot"/>
            <a:miter/>
            <a:tailEnd len="med" type="triangle" w="med"/>
          </a:ln>
        </p:spPr>
      </p:cxnSp>
      <p:cxnSp>
        <p:nvCxnSpPr>
          <p:cNvPr id="1903" name="Straight Arrow Connector 20"/>
          <p:cNvCxnSpPr/>
          <p:nvPr/>
        </p:nvCxnSpPr>
        <p:spPr>
          <a:xfrm flipH="1">
            <a:off x="2894760" y="3048120"/>
            <a:ext cx="2520" cy="3048480"/>
          </a:xfrm>
          <a:prstGeom prst="straightConnector1">
            <a:avLst/>
          </a:prstGeom>
          <a:ln w="38160">
            <a:solidFill>
              <a:srgbClr val="ff0000"/>
            </a:solidFill>
            <a:prstDash val="lgDash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s of Simpson’s 1/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Footer Placeholder 3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Slide Number Placeholder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6057-2E42-46F8-8425-45FF7C4DFA0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Rectangle 14"/>
          <p:cNvSpPr/>
          <p:nvPr/>
        </p:nvSpPr>
        <p:spPr>
          <a:xfrm>
            <a:off x="-121680" y="1752480"/>
            <a:ext cx="685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ving the previous equations for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8" name="Object 17"/>
              <p:cNvSpPr txBox="1"/>
              <p:nvPr/>
            </p:nvSpPr>
            <p:spPr>
              <a:xfrm>
                <a:off x="0" y="2743200"/>
                <a:ext cx="6858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b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9" name="Object 16"/>
              <p:cNvSpPr txBox="1"/>
              <p:nvPr/>
            </p:nvSpPr>
            <p:spPr>
              <a:xfrm>
                <a:off x="0" y="4876920"/>
                <a:ext cx="6858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0" name="Object 15"/>
              <p:cNvSpPr txBox="1"/>
              <p:nvPr/>
            </p:nvSpPr>
            <p:spPr>
              <a:xfrm>
                <a:off x="0" y="6781680"/>
                <a:ext cx="66294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1" name="TextBox 8"/>
          <p:cNvSpPr/>
          <p:nvPr/>
        </p:nvSpPr>
        <p:spPr>
          <a:xfrm rot="20012400">
            <a:off x="423360" y="4479840"/>
            <a:ext cx="582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69696"/>
                </a:solidFill>
                <a:latin typeface="Tahoma"/>
              </a:rPr>
              <a:t>Do NOT write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1000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s of Simpson’s 1/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Footer Placeholder 3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Slide Number Placeholder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043E-1A2A-4B6A-AB81-FF0A96E4F0E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Text Box 100"/>
          <p:cNvSpPr/>
          <p:nvPr/>
        </p:nvSpPr>
        <p:spPr>
          <a:xfrm>
            <a:off x="533520" y="1676520"/>
            <a:ext cx="971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6" name="Group 109"/>
          <p:cNvGrpSpPr/>
          <p:nvPr/>
        </p:nvGrpSpPr>
        <p:grpSpPr>
          <a:xfrm>
            <a:off x="304920" y="2209680"/>
            <a:ext cx="5028480" cy="2742480"/>
            <a:chOff x="304920" y="2209680"/>
            <a:chExt cx="5028480" cy="2742480"/>
          </a:xfrm>
        </p:grpSpPr>
        <mc:AlternateContent>
          <mc:Choice xmlns:a14="http://schemas.microsoft.com/office/drawing/2010/main" Requires="a14">
            <p:sp>
              <p:nvSpPr>
                <p:cNvPr id="1917" name="Object 104"/>
                <p:cNvSpPr txBox="1"/>
                <p:nvPr/>
              </p:nvSpPr>
              <p:spPr>
                <a:xfrm>
                  <a:off x="304920" y="2209680"/>
                  <a:ext cx="2852640" cy="139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≈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8" name="Object 103"/>
                <p:cNvSpPr txBox="1"/>
                <p:nvPr/>
              </p:nvSpPr>
              <p:spPr>
                <a:xfrm>
                  <a:off x="691560" y="3555720"/>
                  <a:ext cx="4641840" cy="139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19" name="Object 102"/>
              <p:cNvSpPr txBox="1"/>
              <p:nvPr/>
            </p:nvSpPr>
            <p:spPr>
              <a:xfrm>
                <a:off x="457200" y="5105520"/>
                <a:ext cx="44560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Object 101"/>
              <p:cNvSpPr txBox="1"/>
              <p:nvPr/>
            </p:nvSpPr>
            <p:spPr>
              <a:xfrm>
                <a:off x="533520" y="6858000"/>
                <a:ext cx="60055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s of Simpson’s 1/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Footer Placeholder 5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Slide Number Placeholder 6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B7C4-DF30-4A45-AB70-35B50DD755F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Rectangle 25"/>
          <p:cNvSpPr/>
          <p:nvPr/>
        </p:nvSpPr>
        <p:spPr>
          <a:xfrm>
            <a:off x="609480" y="2418840"/>
            <a:ext cx="4743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ubstituting values of a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ahoma"/>
              </a:rPr>
              <a:t> 2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giv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Object 26"/>
              <p:cNvSpPr txBox="1"/>
              <p:nvPr/>
            </p:nvSpPr>
            <p:spPr>
              <a:xfrm>
                <a:off x="838080" y="2895480"/>
                <a:ext cx="5222880" cy="243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6" name="Text Box 28"/>
          <p:cNvSpPr/>
          <p:nvPr/>
        </p:nvSpPr>
        <p:spPr>
          <a:xfrm>
            <a:off x="304920" y="53341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for Simpson’s 1/3rd Rule, the interval [a, b] is broken into 2 segments, the segment 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7" name="Object 30"/>
              <p:cNvSpPr txBox="1"/>
              <p:nvPr/>
            </p:nvSpPr>
            <p:spPr>
              <a:xfrm>
                <a:off x="1523880" y="6400800"/>
                <a:ext cx="3124440" cy="19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s of Simpson’s 1/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1AAA-3526-4167-A57A-013E2B50D0C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Text Box 90"/>
          <p:cNvSpPr/>
          <p:nvPr/>
        </p:nvSpPr>
        <p:spPr>
          <a:xfrm>
            <a:off x="609480" y="2590920"/>
            <a:ext cx="14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Object 88"/>
              <p:cNvSpPr txBox="1"/>
              <p:nvPr/>
            </p:nvSpPr>
            <p:spPr>
              <a:xfrm>
                <a:off x="380880" y="3581280"/>
                <a:ext cx="58676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8T16:33:10Z</dcterms:created>
  <dc:creator>Autar Kaw, Charlie Barker</dc:creator>
  <dc:description>A power point presentation describing Simpson's 1/3rd Rule</dc:description>
  <cp:keywords>Power Point Simpson's 1/3rd Rule</cp:keywords>
  <dc:language>en-US</dc:language>
  <cp:lastModifiedBy>sraja</cp:lastModifiedBy>
  <cp:lastPrinted>1999-03-26T19:03:37Z</cp:lastPrinted>
  <dcterms:modified xsi:type="dcterms:W3CDTF">2011-03-25T13:45:34Z</dcterms:modified>
  <cp:revision>157</cp:revision>
  <dc:subject>Integraion</dc:subject>
  <dc:title>Simpson's 1/3rd Rule</dc:title>
</cp:coreProperties>
</file>